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084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084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6B530FDD-DA1F-4504-945E-02624AF9E0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DFDED3B5-C929-400E-90D3-7589D419BB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E36DB883-34B0-489B-AF9B-37F1E19492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1113EB09-C7BF-4057-AC03-299F04BA58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C77F10E9-12F5-4C99-8F2E-6C06E4DAAA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4A417B06-4AD1-4675-BD98-318A4978F4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CFB51974-7356-4D33-B479-CF454C6F86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4F0F878D-1288-48A5-AB21-962F6B15DC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FC8DA347-7DA4-4110-8E35-A0819946E0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7FB715DD-BFE5-492F-9AD9-B1819B4612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D95AB33D-CEAD-4C6E-AD83-7689A56A71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1C53F6F0-513A-4C55-B583-17300E6360E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258727F4-89FD-4BC0-8DD5-144014F72C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60E6F2D6-C689-406B-A9DF-A76C36942C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2084CB18-22F4-436C-96C6-AF8E08CBF9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ECE3646A-5592-4E53-954D-702F352ABA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8A1F1A30-9E13-4BE6-AD93-316F3BE83B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1E365DCB-8E81-4F80-95EB-8FA4627AF9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5811E585-3223-49F1-B54E-844E20931A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0F39032E-3790-4CAC-B25C-E924389FE7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46080"/>
                <a:tab algn="l" pos="1893960"/>
                <a:tab algn="l" pos="2841480"/>
                <a:tab algn="l" pos="3789360"/>
                <a:tab algn="l" pos="4737240"/>
                <a:tab algn="l" pos="5684760"/>
                <a:tab algn="l" pos="6632640"/>
                <a:tab algn="l" pos="7580160"/>
                <a:tab algn="l" pos="8528040"/>
                <a:tab algn="l" pos="9475920"/>
                <a:tab algn="l" pos="10423440"/>
                <a:tab algn="l" pos="10782360"/>
              </a:tabLst>
            </a:pPr>
            <a:fld id="{1A6EF327-D16B-4778-9619-3115727E17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EEE-F9A8-415A-856C-0B04EEE3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741-7174-4092-8377-95145D09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395-4B63-41B3-9C5B-5C6018FE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E6C-B588-4413-A8BA-F6BEA0C2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140-4EB2-4213-B649-EF841995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18B-7A45-4159-BC5E-AF44D8EE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E47-9ED2-4F6C-995B-F0CA0A36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CFC-C47B-42D3-87FB-234C4B4E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9E5-BF44-43D2-8E08-B4B6867B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C39-7CC6-4619-90CB-A8775CA8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896-87EA-441F-B4E3-07778ED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A41-5490-46C0-A1EC-A2B3840B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0FFD50-956D-42B7-B8BB-5D495BD6D71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5157360"/>
            <a:ext cx="8280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/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>
            <a:alphaModFix amt="12000"/>
          </a:blip>
          <a:stretch/>
        </p:blipFill>
        <p:spPr>
          <a:xfrm>
            <a:off x="1547640" y="1052640"/>
            <a:ext cx="5935680" cy="3962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24000" y="2276640"/>
            <a:ext cx="849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sady železniční dopravy na území Pardubického kraje od roku 20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826920" y="5516640"/>
            <a:ext cx="1600200" cy="485640"/>
          </a:xfrm>
          <a:prstGeom prst="rect">
            <a:avLst/>
          </a:prstGeom>
          <a:ln w="0">
            <a:noFill/>
          </a:ln>
        </p:spPr>
      </p:pic>
      <p:sp>
        <p:nvSpPr>
          <p:cNvPr id="53" name="TextovéPole 5"/>
          <p:cNvSpPr/>
          <p:nvPr/>
        </p:nvSpPr>
        <p:spPr>
          <a:xfrm>
            <a:off x="7308720" y="18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loha č.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6335640" y="6021360"/>
            <a:ext cx="2808360" cy="7239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24: úsek Lichkov - Králíky – Štíty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25: úsek Dolní Lipka - Hanušo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3141720"/>
            <a:ext cx="8712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důvodně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očty cestujících z Králík směr Štíty prudce klesají z nejvýše 120 os. za celý den až na pouhých 40 (stanice Štíty je mimo město, nutný souběh autobusů po silnici I.tříd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o Hanušovic asi 40 osob/den, trať míjí („objíždí“) místní spádové centrum Králí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oprava v úsecích Králíky – Štíty resp. Hanušovice bude kvalitně nahrazena mnohem levnější autobusovou dopravou (přímé autobusy do Lanškrouna, ski-/cyklobus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 Lichkově bude zajištěna návaznost autobusů na spěšné vlaky z Pardub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1125360"/>
            <a:ext cx="3240000" cy="2022480"/>
          </a:xfrm>
          <a:prstGeom prst="rect">
            <a:avLst/>
          </a:prstGeom>
          <a:ln w="0">
            <a:noFill/>
          </a:ln>
        </p:spPr>
      </p:pic>
      <p:sp>
        <p:nvSpPr>
          <p:cNvPr id="121" name="Freeform 5"/>
          <p:cNvSpPr/>
          <p:nvPr/>
        </p:nvSpPr>
        <p:spPr>
          <a:xfrm>
            <a:off x="2954160" y="1319040"/>
            <a:ext cx="376560" cy="381240"/>
          </a:xfrm>
          <a:custGeom>
            <a:avLst/>
            <a:gdLst/>
            <a:ahLst/>
            <a:rect l="l" t="t" r="r" b="b"/>
            <a:pathLst>
              <a:path w="10000" h="11788">
                <a:moveTo>
                  <a:pt x="0" y="492"/>
                </a:moveTo>
                <a:lnTo>
                  <a:pt x="3248" y="164"/>
                </a:lnTo>
                <a:lnTo>
                  <a:pt x="10000" y="1066"/>
                </a:lnTo>
                <a:lnTo>
                  <a:pt x="3333" y="0"/>
                </a:lnTo>
                <a:cubicBezTo>
                  <a:pt x="3762" y="3333"/>
                  <a:pt x="4288" y="8455"/>
                  <a:pt x="4717" y="11788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ovéPole 6"/>
          <p:cNvSpPr/>
          <p:nvPr/>
        </p:nvSpPr>
        <p:spPr>
          <a:xfrm>
            <a:off x="3851280" y="1268280"/>
            <a:ext cx="50418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, do Hanušovic s přestupy v Dolní Lip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rada vlaků v úseku Moravský Karlov - Štíty a Dolní Lipka – Hanušovice autobusovou doprav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179280" y="5662440"/>
            <a:ext cx="3240360" cy="290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179280" y="5157720"/>
            <a:ext cx="3240360" cy="39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179280" y="4870440"/>
            <a:ext cx="3241800" cy="20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6"/>
          <a:stretch/>
        </p:blipFill>
        <p:spPr>
          <a:xfrm>
            <a:off x="3564000" y="4869000"/>
            <a:ext cx="3024000" cy="61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7"/>
          <a:stretch/>
        </p:blipFill>
        <p:spPr>
          <a:xfrm>
            <a:off x="3564000" y="5516640"/>
            <a:ext cx="3024000" cy="69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8"/>
          <a:stretch/>
        </p:blipFill>
        <p:spPr>
          <a:xfrm>
            <a:off x="239760" y="5961240"/>
            <a:ext cx="302400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31: úsek Pardubice – Hradec Král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4103280"/>
            <a:ext cx="8928000" cy="27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vedení MHD Pardubice k nádraží v Rosicích (zkrácení cesty směr Polabiny) znamená potenciál dalšího zvýšení atraktivity spojení pro cestujíc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 technologických důvodů může být nutné částečně omezit obsluhu žst. Stéblová, která se však nachází mimo stejnojmennou obec. Ta bude (stejně jako lokalita u stanice) obsloužena autobus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mezení (ostatních) souběžných autobusů Pardubice – Hradec Králov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budoucnu (postupně podle zdvojkolejňování) další zkracování interva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 roku 2012 postupné posilování role zrychlených spojů při zachování obsluhy zastáv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ažením přestupních vazeb současně v Hradci Králové i Pardubicích dochází ke zrychlení dopr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484280"/>
            <a:ext cx="4037040" cy="2521080"/>
          </a:xfrm>
          <a:prstGeom prst="rect">
            <a:avLst/>
          </a:prstGeom>
          <a:ln w="0">
            <a:noFill/>
          </a:ln>
        </p:spPr>
      </p:pic>
      <p:sp>
        <p:nvSpPr>
          <p:cNvPr id="132" name="Freeform 5"/>
          <p:cNvSpPr/>
          <p:nvPr/>
        </p:nvSpPr>
        <p:spPr>
          <a:xfrm>
            <a:off x="1467000" y="1484280"/>
            <a:ext cx="152280" cy="493920"/>
          </a:xfrm>
          <a:custGeom>
            <a:avLst/>
            <a:gdLst>
              <a:gd name="textAreaLeft" fmla="*/ 0 w 152280"/>
              <a:gd name="textAreaRight" fmla="*/ 152640 w 15228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08" h="348">
                <a:moveTo>
                  <a:pt x="108" y="348"/>
                </a:moveTo>
                <a:lnTo>
                  <a:pt x="0" y="228"/>
                </a:lnTo>
                <a:lnTo>
                  <a:pt x="24" y="102"/>
                </a:lnTo>
                <a:lnTo>
                  <a:pt x="54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ovéPole 8"/>
          <p:cNvSpPr/>
          <p:nvPr/>
        </p:nvSpPr>
        <p:spPr>
          <a:xfrm>
            <a:off x="4356000" y="1268280"/>
            <a:ext cx="4608720" cy="32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é i zastávkové vlaky převážně každou hodi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avrhovaný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omezení zastávkových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výšení rozsahu provoz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ýšení podílu spěšných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lepšení přípojů v Pardubicí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36: úsek Třemošnice – Žleby (- Čásla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3357720"/>
            <a:ext cx="8856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tnost souběžného vedení autobusové linky z Pardubického kraje - trať až na výjimky špatně obsluhuje obce, je velmi pomalá (delší než vhodným autobus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očeský kraj má zájem trať nadále provozov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907920"/>
            <a:ext cx="3960720" cy="2473560"/>
          </a:xfrm>
          <a:prstGeom prst="rect">
            <a:avLst/>
          </a:prstGeom>
          <a:ln w="0">
            <a:noFill/>
          </a:ln>
        </p:spPr>
      </p:pic>
      <p:sp>
        <p:nvSpPr>
          <p:cNvPr id="137" name="Freeform 5"/>
          <p:cNvSpPr/>
          <p:nvPr/>
        </p:nvSpPr>
        <p:spPr>
          <a:xfrm>
            <a:off x="900000" y="1773360"/>
            <a:ext cx="257400" cy="90360"/>
          </a:xfrm>
          <a:custGeom>
            <a:avLst/>
            <a:gdLst>
              <a:gd name="textAreaLeft" fmla="*/ 0 w 257400"/>
              <a:gd name="textAreaRight" fmla="*/ 257760 w 25740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62" h="57">
                <a:moveTo>
                  <a:pt x="0" y="0"/>
                </a:moveTo>
                <a:lnTo>
                  <a:pt x="162" y="57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ovéPole 8"/>
          <p:cNvSpPr/>
          <p:nvPr/>
        </p:nvSpPr>
        <p:spPr>
          <a:xfrm>
            <a:off x="4284720" y="981000"/>
            <a:ext cx="4680000" cy="27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 souběžně s autobusy, spíše dle požadavků Středočeského kr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yní zachování stávajícího rozsahu a podoby provoz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250920" y="5803920"/>
            <a:ext cx="4537080" cy="809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3"/>
          <a:stretch/>
        </p:blipFill>
        <p:spPr>
          <a:xfrm>
            <a:off x="250920" y="4724280"/>
            <a:ext cx="4551120" cy="289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4"/>
          <a:stretch/>
        </p:blipFill>
        <p:spPr>
          <a:xfrm>
            <a:off x="250920" y="5084640"/>
            <a:ext cx="4546440" cy="676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5"/>
          <a:stretch/>
        </p:blipFill>
        <p:spPr>
          <a:xfrm>
            <a:off x="4830840" y="5329080"/>
            <a:ext cx="42847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38: úsek Pardubice - Chrudim - Hlinsk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3715920"/>
            <a:ext cx="87138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é využití cestujícími zejména do Chrudimi, nekvalitní silniční síť na Hlinec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rdubice – Chrudim (- Slatiňany) vyšší hustota spojů (příměstská dopra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stupy na návazné autobusy do více směrů v Chrasti, Žďárci a Hlin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jde k výraznému zatraktivnění relace Pardubice – Chrudim - Hlinsko páteřními spěšnými vlaky, na které budou navazovat autobusové lin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 vlaky také umožní rychlé spojení z Poličska na západ (Chrudim, Chotěboř) i přes náhradu vlaků Žďárec u Skutče – Pustá Kamenice autobu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ý koncept na trati je prvním krokem ke zkvalitnění nabídky dopravního spojení, které bude dále řešeno v souvislosti s pořizováním nových železničních vozi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dochází k nesouladu v regionální dopravě Pardubické kraje a Vysoč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413000"/>
            <a:ext cx="3574800" cy="2232000"/>
          </a:xfrm>
          <a:prstGeom prst="rect">
            <a:avLst/>
          </a:prstGeom>
          <a:ln w="0">
            <a:noFill/>
          </a:ln>
        </p:spPr>
      </p:pic>
      <p:sp>
        <p:nvSpPr>
          <p:cNvPr id="146" name="Freeform 5"/>
          <p:cNvSpPr/>
          <p:nvPr/>
        </p:nvSpPr>
        <p:spPr>
          <a:xfrm>
            <a:off x="1355760" y="1731960"/>
            <a:ext cx="331920" cy="461880"/>
          </a:xfrm>
          <a:custGeom>
            <a:avLst/>
            <a:gdLst>
              <a:gd name="textAreaLeft" fmla="*/ 0 w 331920"/>
              <a:gd name="textAreaRight" fmla="*/ 332280 w 3319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88" h="414">
                <a:moveTo>
                  <a:pt x="114" y="108"/>
                </a:moveTo>
                <a:lnTo>
                  <a:pt x="0" y="0"/>
                </a:lnTo>
                <a:lnTo>
                  <a:pt x="102" y="390"/>
                </a:lnTo>
                <a:lnTo>
                  <a:pt x="288" y="414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5"/>
          <p:cNvSpPr/>
          <p:nvPr/>
        </p:nvSpPr>
        <p:spPr>
          <a:xfrm>
            <a:off x="1476360" y="2173320"/>
            <a:ext cx="314280" cy="550800"/>
          </a:xfrm>
          <a:custGeom>
            <a:avLst/>
            <a:gdLst>
              <a:gd name="textAreaLeft" fmla="*/ 0 w 314280"/>
              <a:gd name="textAreaRight" fmla="*/ 314640 w 3142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237" h="378">
                <a:moveTo>
                  <a:pt x="156" y="0"/>
                </a:moveTo>
                <a:lnTo>
                  <a:pt x="231" y="81"/>
                </a:lnTo>
                <a:lnTo>
                  <a:pt x="237" y="168"/>
                </a:lnTo>
                <a:lnTo>
                  <a:pt x="159" y="267"/>
                </a:lnTo>
                <a:lnTo>
                  <a:pt x="0" y="378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ovéPole 9"/>
          <p:cNvSpPr/>
          <p:nvPr/>
        </p:nvSpPr>
        <p:spPr>
          <a:xfrm>
            <a:off x="3814920" y="1276200"/>
            <a:ext cx="5329080" cy="23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vážně osobní vlaky, částečně zrychlené (malý počet Sp a 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ílení železniční doprav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otenciálu Hlinecka a Skutečska zvýšením počtu spěšných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chování rychlíků Pardubice - Jihl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60: úsek Česká Třebová - Svitavy - Leto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3357720"/>
            <a:ext cx="8856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ez navrženého zrychlení nelze stihnout všechny potřebné přestupy (vlaky i autobus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luha obcí autobusovou linkou v souběhu s tratí, výrazné zrychlení vlaků pro Svit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 vhodné další zkrácení intervalů (podmínkou je však shoda s Jihomoravským kraj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utobusové linky v okolí trati je nutné vést v každém případě (zastávky mimo osídl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9280" y="765000"/>
            <a:ext cx="3816360" cy="2382840"/>
          </a:xfrm>
          <a:prstGeom prst="rect">
            <a:avLst/>
          </a:prstGeom>
          <a:ln w="0">
            <a:noFill/>
          </a:ln>
        </p:spPr>
      </p:pic>
      <p:sp>
        <p:nvSpPr>
          <p:cNvPr id="152" name="Freeform 5"/>
          <p:cNvSpPr/>
          <p:nvPr/>
        </p:nvSpPr>
        <p:spPr>
          <a:xfrm>
            <a:off x="2771640" y="1628640"/>
            <a:ext cx="88920" cy="1128960"/>
          </a:xfrm>
          <a:custGeom>
            <a:avLst/>
            <a:gdLst>
              <a:gd name="textAreaLeft" fmla="*/ 0 w 88920"/>
              <a:gd name="textAreaRight" fmla="*/ 89280 w 8892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w="70" h="885">
                <a:moveTo>
                  <a:pt x="0" y="0"/>
                </a:moveTo>
                <a:lnTo>
                  <a:pt x="10" y="309"/>
                </a:lnTo>
                <a:lnTo>
                  <a:pt x="10" y="745"/>
                </a:lnTo>
                <a:lnTo>
                  <a:pt x="70" y="885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ovéPole 8"/>
          <p:cNvSpPr/>
          <p:nvPr/>
        </p:nvSpPr>
        <p:spPr>
          <a:xfrm>
            <a:off x="4067280" y="692280"/>
            <a:ext cx="489744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bilní počet R, několik Os vlaků bez pravidelných interval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stávkami z Březové do Svitav převážně projíždět (pouze vlaky Sp/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itavy – Č. Třebová mírná redukce počtu zastávkových spojů (komprom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ýšení počtu přímých osobních vlaků z Březové nad Svitavou do Br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1117440" y="4687920"/>
            <a:ext cx="2455920" cy="205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3"/>
          <a:stretch/>
        </p:blipFill>
        <p:spPr>
          <a:xfrm>
            <a:off x="6084720" y="4686480"/>
            <a:ext cx="2881440" cy="2068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4"/>
          <a:stretch/>
        </p:blipFill>
        <p:spPr>
          <a:xfrm>
            <a:off x="4068720" y="5629320"/>
            <a:ext cx="2000160" cy="228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5"/>
          <a:stretch/>
        </p:blipFill>
        <p:spPr>
          <a:xfrm>
            <a:off x="181080" y="5629320"/>
            <a:ext cx="895320" cy="21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61: úsek Svitavy – Polička – Pustá Kame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68360" y="765000"/>
            <a:ext cx="3456000" cy="2157480"/>
          </a:xfrm>
          <a:prstGeom prst="rect">
            <a:avLst/>
          </a:prstGeom>
          <a:ln w="0">
            <a:noFill/>
          </a:ln>
        </p:spPr>
      </p:pic>
      <p:sp>
        <p:nvSpPr>
          <p:cNvPr id="160" name="Freeform 5"/>
          <p:cNvSpPr/>
          <p:nvPr/>
        </p:nvSpPr>
        <p:spPr>
          <a:xfrm>
            <a:off x="2195640" y="1916280"/>
            <a:ext cx="628560" cy="106200"/>
          </a:xfrm>
          <a:custGeom>
            <a:avLst/>
            <a:gdLst>
              <a:gd name="textAreaLeft" fmla="*/ 0 w 628560"/>
              <a:gd name="textAreaRight" fmla="*/ 628920 w 6285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78" h="90">
                <a:moveTo>
                  <a:pt x="478" y="38"/>
                </a:moveTo>
                <a:lnTo>
                  <a:pt x="345" y="80"/>
                </a:lnTo>
                <a:lnTo>
                  <a:pt x="222" y="90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ovéPole 8"/>
          <p:cNvSpPr/>
          <p:nvPr/>
        </p:nvSpPr>
        <p:spPr>
          <a:xfrm>
            <a:off x="4067280" y="765000"/>
            <a:ext cx="4862520" cy="23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vážně zastávkové osobní vlaky, souběh s autobu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stávkami Vendolí, Květná, Květná zast., Pomezí a Pomezí zast. projíždě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azně zlepšit přestupy ve Svitavá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8820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utnost zajistit přípoje na vlaky a autobusy současně v Poličce i Svitavách a zároveň efektivní obraty vozidel znamená jízdní doby z Poličky oběma směry do 26 min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busy, obsluhující obce Pomezí, Květná a Vendolí, jsou nutné vzhledem k umístění železničních zastávek mimo osídl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průběhu špičkové hodiny nastupuje v dotčených zastávkách průměrně 0,5-3 oso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hrazení autobusovou dopravou nebude znamenat prodloužení cestovní do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 Svitavách jsou autobusové zastávky umístěny lépe než železniční sta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tráta přípojů by ohrozila další existenci regionálních vlaků (ostatní úlohy by vyřešily autobus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4788000" y="4781520"/>
            <a:ext cx="2081160" cy="2076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468360" y="4781520"/>
            <a:ext cx="2141640" cy="2076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4"/>
          <a:stretch/>
        </p:blipFill>
        <p:spPr>
          <a:xfrm>
            <a:off x="2646360" y="4772160"/>
            <a:ext cx="2084400" cy="2077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5"/>
          <a:stretch/>
        </p:blipFill>
        <p:spPr>
          <a:xfrm>
            <a:off x="6875640" y="4781520"/>
            <a:ext cx="201600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61: úsek Žďárec u Skutče – Pustá Kame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68360" y="105264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5"/>
          <p:cNvSpPr/>
          <p:nvPr/>
        </p:nvSpPr>
        <p:spPr>
          <a:xfrm>
            <a:off x="1917720" y="2030400"/>
            <a:ext cx="342720" cy="169920"/>
          </a:xfrm>
          <a:custGeom>
            <a:avLst/>
            <a:gdLst>
              <a:gd name="textAreaLeft" fmla="*/ 0 w 342720"/>
              <a:gd name="textAreaRight" fmla="*/ 343080 w 3427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77" h="171">
                <a:moveTo>
                  <a:pt x="0" y="0"/>
                </a:moveTo>
                <a:lnTo>
                  <a:pt x="277" y="171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ovéPole 9"/>
          <p:cNvSpPr/>
          <p:nvPr/>
        </p:nvSpPr>
        <p:spPr>
          <a:xfrm>
            <a:off x="4211640" y="981000"/>
            <a:ext cx="4681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 v celé trati ze Svita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louhé jízdní do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objednání osobní dopravy v prac. dny (mimo prázdnin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chována rekreační doprava, obnoven přímý vlak z Pardub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48592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zké využití cestujícími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e špičce jen méně než 10 os./hod.), dlouhé jízdní doby, nevýhodná poloha žel. sta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ýhodnější poloha autobusových zastávek, kratší cestovní doby z centra osídlení (Skuteč i další obce), spádovost vedle Skutče také směr Hlinsko, kam vlak neje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znamný rekreační potenciál, je proto vhodné zachovat turistickou do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Zkvalitněno spojení Polička – Chotěboř  (Chrudim) autobusy po silnici I/34, navazujícími na spěšné vlaky v Hlin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olička - Pardubice: bus/vlak přes Choc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řestupní vazby bus/vlak pro obce v okolí Skutče ve Žďárci u Skutč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859280" y="3548160"/>
            <a:ext cx="4025880" cy="237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4859280" y="3860640"/>
            <a:ext cx="4025880" cy="822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4"/>
          <a:stretch/>
        </p:blipFill>
        <p:spPr>
          <a:xfrm>
            <a:off x="4849920" y="4714920"/>
            <a:ext cx="4041720" cy="834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5"/>
          <a:stretch/>
        </p:blipFill>
        <p:spPr>
          <a:xfrm>
            <a:off x="4859280" y="5661000"/>
            <a:ext cx="41166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62: úsek Česká Třebová – Moravská Třeb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4247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ak může sloužit jako dopravní páte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čekává se nasazení rekonstruovaných vozi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sledné provážení souprav až do České Třebové bez spojování vlaků a zavedení pravidelných intervalů mezi spoji může atraktivitu linky dále zvýš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jištění návazností v České Třebo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1341360"/>
            <a:ext cx="3960720" cy="247356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5"/>
          <p:cNvSpPr/>
          <p:nvPr/>
        </p:nvSpPr>
        <p:spPr>
          <a:xfrm>
            <a:off x="3092400" y="2278080"/>
            <a:ext cx="415800" cy="426960"/>
          </a:xfrm>
          <a:custGeom>
            <a:avLst/>
            <a:gdLst>
              <a:gd name="textAreaLeft" fmla="*/ 0 w 415800"/>
              <a:gd name="textAreaRight" fmla="*/ 416160 w 41580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14" h="337">
                <a:moveTo>
                  <a:pt x="0" y="0"/>
                </a:moveTo>
                <a:lnTo>
                  <a:pt x="194" y="217"/>
                </a:lnTo>
                <a:lnTo>
                  <a:pt x="314" y="337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ovéPole 8"/>
          <p:cNvSpPr/>
          <p:nvPr/>
        </p:nvSpPr>
        <p:spPr>
          <a:xfrm>
            <a:off x="4427640" y="1268280"/>
            <a:ext cx="4537080" cy="29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, částečně spojované mezi Čes. Třebovou a Třebovicemi s jinými linka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chování stávající koncep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mostatné vedení všech vlaků až do České Třebové resp. zpě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62: úsek Mor. Třebová – Chornice – Velké Opatovice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71: úsek Chornice – Ko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6920" y="981000"/>
            <a:ext cx="2881440" cy="1798560"/>
          </a:xfrm>
          <a:prstGeom prst="rect">
            <a:avLst/>
          </a:prstGeom>
          <a:ln w="0">
            <a:noFill/>
          </a:ln>
        </p:spPr>
      </p:pic>
      <p:sp>
        <p:nvSpPr>
          <p:cNvPr id="183" name="Freeform 5"/>
          <p:cNvSpPr/>
          <p:nvPr/>
        </p:nvSpPr>
        <p:spPr>
          <a:xfrm>
            <a:off x="3106800" y="1989000"/>
            <a:ext cx="369720" cy="4082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3442" y="4898"/>
                </a:lnTo>
                <a:lnTo>
                  <a:pt x="10000" y="10000"/>
                </a:lnTo>
                <a:lnTo>
                  <a:pt x="3128" y="4898"/>
                </a:lnTo>
                <a:lnTo>
                  <a:pt x="248" y="1000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ovéPole 8"/>
          <p:cNvSpPr/>
          <p:nvPr/>
        </p:nvSpPr>
        <p:spPr>
          <a:xfrm>
            <a:off x="4284720" y="1125360"/>
            <a:ext cx="41749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olik párů málo využívaných osobních vlaků s pře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rada autobusovou doprav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4219560" cy="511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3"/>
          <a:stretch/>
        </p:blipFill>
        <p:spPr>
          <a:xfrm>
            <a:off x="4867200" y="5548320"/>
            <a:ext cx="4214880" cy="12492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640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ať je vedena zcela mimo osídlení, velmi nízké počty cestujících (asi 50 osob za celý den, v průměrné špičkové hodině do 10 osob celk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nice umístěny skoro vždy mimo osídlení (např. Jevíčko 1,5 km), je tak nutné vedení souběžných autobus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jení bude výrazně kvalitněji zajištěno mnohem levnější autobusovou dopravou, vzniknou zcela nová nebo budou posílena dnes velmi omezená spojení (Jevíčko – Konice, Moravská Třebová – Moheln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"/>
          <p:cNvPicPr/>
          <p:nvPr/>
        </p:nvPicPr>
        <p:blipFill>
          <a:blip r:embed="rId4"/>
          <a:stretch/>
        </p:blipFill>
        <p:spPr>
          <a:xfrm>
            <a:off x="0" y="6186600"/>
            <a:ext cx="2484360" cy="669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5"/>
          <a:stretch/>
        </p:blipFill>
        <p:spPr>
          <a:xfrm>
            <a:off x="2484360" y="6186600"/>
            <a:ext cx="2382840" cy="671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"/>
          <p:cNvPicPr/>
          <p:nvPr/>
        </p:nvPicPr>
        <p:blipFill>
          <a:blip r:embed="rId6"/>
          <a:stretch/>
        </p:blipFill>
        <p:spPr>
          <a:xfrm>
            <a:off x="324000" y="5950080"/>
            <a:ext cx="2152440" cy="152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"/>
          <p:cNvPicPr/>
          <p:nvPr/>
        </p:nvPicPr>
        <p:blipFill>
          <a:blip r:embed="rId7"/>
          <a:stretch/>
        </p:blipFill>
        <p:spPr>
          <a:xfrm>
            <a:off x="3132000" y="5950080"/>
            <a:ext cx="981360" cy="18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8"/>
          <a:stretch/>
        </p:blipFill>
        <p:spPr>
          <a:xfrm>
            <a:off x="324000" y="4508640"/>
            <a:ext cx="4228920" cy="255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9"/>
          <a:stretch/>
        </p:blipFill>
        <p:spPr>
          <a:xfrm>
            <a:off x="324000" y="4797360"/>
            <a:ext cx="4225680" cy="397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10"/>
          <a:stretch/>
        </p:blipFill>
        <p:spPr>
          <a:xfrm>
            <a:off x="4867200" y="4395960"/>
            <a:ext cx="4213440" cy="111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70: úsek Česká Třebová – Zábřeh na Mora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400" y="3760920"/>
            <a:ext cx="8955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ať je sice rychlá, avšak mimo Krasíkov velmi špatně napojuje sídla a nevede v hlavním směru přirozené dojížďky (Lanškroun, popř. Moravská Třebová, mimo trať 2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nutná obsluha obcí autobusovými linkami směr Lanškroun (Mor. Třebov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jení České Třebové se Zábřehem by bylo dostačující dálkovo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pravou jedn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za hodinu, avšak stávající jízdní řád rychlíků stále zachovává nerovnoměrné rozložení spoj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gionálními vlaky tak jezdí stále ještě významné množství cestujících, a při dojížďce do České Třebové je vlak výrazně rychlejš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gionální doprava tedy bude zachov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1052640"/>
            <a:ext cx="4176720" cy="2608200"/>
          </a:xfrm>
          <a:prstGeom prst="rect">
            <a:avLst/>
          </a:prstGeom>
          <a:ln w="0">
            <a:noFill/>
          </a:ln>
        </p:spPr>
      </p:pic>
      <p:sp>
        <p:nvSpPr>
          <p:cNvPr id="198" name="Freeform 5"/>
          <p:cNvSpPr/>
          <p:nvPr/>
        </p:nvSpPr>
        <p:spPr>
          <a:xfrm>
            <a:off x="3244680" y="2030400"/>
            <a:ext cx="924120" cy="100080"/>
          </a:xfrm>
          <a:custGeom>
            <a:avLst/>
            <a:gdLst>
              <a:gd name="textAreaLeft" fmla="*/ 0 w 924120"/>
              <a:gd name="textAreaRight" fmla="*/ 924480 w 9241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662" h="79">
                <a:moveTo>
                  <a:pt x="0" y="0"/>
                </a:moveTo>
                <a:lnTo>
                  <a:pt x="38" y="79"/>
                </a:lnTo>
                <a:lnTo>
                  <a:pt x="362" y="19"/>
                </a:lnTo>
                <a:lnTo>
                  <a:pt x="662" y="55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ovéPole 8"/>
          <p:cNvSpPr/>
          <p:nvPr/>
        </p:nvSpPr>
        <p:spPr>
          <a:xfrm>
            <a:off x="4716360" y="1268280"/>
            <a:ext cx="42483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olik párů Os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ková dopr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chování stávající koncep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24000" y="692280"/>
            <a:ext cx="3240000" cy="2023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10: úsek (Kolín -) Kojice - Pardub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2708280"/>
            <a:ext cx="86425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kurenceschopné spojení Přelouč – Pardubice bude cestujícím nabídnuto každých 30 min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stavení by mohlo způsobit rozvázání přípojů v Pardubicí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 špičce nastupuje ve Svítkově a Opočínku do 4 osob/hod., celková obsazenost vlaků přitom činí asi 150 os./hod. s potenciálem dalšího růs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stávka Opočínek se nachází mimo osídlení, oblast je dobře obsloužena MHD směr Pardub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pojení do Přelouče bude v pracovní dny zajištěno posilovými vlaky, o víkendu autobusy M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4"/>
          <p:cNvSpPr/>
          <p:nvPr/>
        </p:nvSpPr>
        <p:spPr>
          <a:xfrm>
            <a:off x="357120" y="1014480"/>
            <a:ext cx="1062000" cy="698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69" h="44">
                <a:moveTo>
                  <a:pt x="0" y="0"/>
                </a:moveTo>
                <a:lnTo>
                  <a:pt x="255" y="8"/>
                </a:lnTo>
                <a:lnTo>
                  <a:pt x="447" y="14"/>
                </a:lnTo>
                <a:lnTo>
                  <a:pt x="669" y="44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ovéPole 8"/>
          <p:cNvSpPr/>
          <p:nvPr/>
        </p:nvSpPr>
        <p:spPr>
          <a:xfrm>
            <a:off x="3708360" y="765000"/>
            <a:ext cx="529128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nzivní dálková doprava (R, IC/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i Pardubicemi a Přeloučí zrychlit část vlaků projetím zastávek s minimálním využit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024" descr=""/>
          <p:cNvPicPr/>
          <p:nvPr/>
        </p:nvPicPr>
        <p:blipFill>
          <a:blip r:embed="rId2"/>
          <a:stretch/>
        </p:blipFill>
        <p:spPr>
          <a:xfrm>
            <a:off x="4884840" y="4726080"/>
            <a:ext cx="2128680" cy="2012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25" descr=""/>
          <p:cNvPicPr/>
          <p:nvPr/>
        </p:nvPicPr>
        <p:blipFill>
          <a:blip r:embed="rId3"/>
          <a:stretch/>
        </p:blipFill>
        <p:spPr>
          <a:xfrm>
            <a:off x="5965920" y="4411800"/>
            <a:ext cx="2190600" cy="34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6" descr=""/>
          <p:cNvPicPr/>
          <p:nvPr/>
        </p:nvPicPr>
        <p:blipFill>
          <a:blip r:embed="rId4"/>
          <a:stretch/>
        </p:blipFill>
        <p:spPr>
          <a:xfrm>
            <a:off x="1068480" y="4411800"/>
            <a:ext cx="2409840" cy="295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27" descr=""/>
          <p:cNvPicPr/>
          <p:nvPr/>
        </p:nvPicPr>
        <p:blipFill>
          <a:blip r:embed="rId5"/>
          <a:stretch/>
        </p:blipFill>
        <p:spPr>
          <a:xfrm>
            <a:off x="7045200" y="4797360"/>
            <a:ext cx="2098800" cy="190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28" descr=""/>
          <p:cNvPicPr/>
          <p:nvPr/>
        </p:nvPicPr>
        <p:blipFill>
          <a:blip r:embed="rId6"/>
          <a:stretch/>
        </p:blipFill>
        <p:spPr>
          <a:xfrm>
            <a:off x="147600" y="4707000"/>
            <a:ext cx="214632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29" descr=""/>
          <p:cNvPicPr/>
          <p:nvPr/>
        </p:nvPicPr>
        <p:blipFill>
          <a:blip r:embed="rId7"/>
          <a:stretch/>
        </p:blipFill>
        <p:spPr>
          <a:xfrm>
            <a:off x="2365200" y="4797360"/>
            <a:ext cx="241308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72: úsek Česká Třebová – Lanškr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4005360"/>
            <a:ext cx="87836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oto spojení má vysoký potenciál nárůstu poptávky po přepravě (zejména s ohledem na budoucí nasazení moderních vozidel nebo v případě zlepšení přestupů na autobusy v Lanškrouně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ať bude sloužit jako dopravní páteř, na kterou budou dále navazovat obslužné lin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jezd žst. Třebovice v Č. je nutný z důvodu obratů soupravy a přípojů v Č. Třebo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řebovice budou plně obslouženy linkami směr Moravská Třebová, resp. Zábřeh, směr Rudoltice (z toho jen část Lanškroun) jezdí z Třebovic cca 10 osob za celý den - bude možné využít linku směr Zábřeh na Moravě stejně jako přímé autobu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čekává se zkrácení jízdní doby v případě úprav infrastruktury v Lanškrou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1413000"/>
            <a:ext cx="3673440" cy="2293920"/>
          </a:xfrm>
          <a:prstGeom prst="rect">
            <a:avLst/>
          </a:prstGeom>
          <a:ln w="0">
            <a:noFill/>
          </a:ln>
        </p:spPr>
      </p:pic>
      <p:sp>
        <p:nvSpPr>
          <p:cNvPr id="203" name="Freeform 4"/>
          <p:cNvSpPr/>
          <p:nvPr/>
        </p:nvSpPr>
        <p:spPr>
          <a:xfrm>
            <a:off x="2884320" y="2176560"/>
            <a:ext cx="327240" cy="163440"/>
          </a:xfrm>
          <a:custGeom>
            <a:avLst/>
            <a:gdLst>
              <a:gd name="textAreaLeft" fmla="*/ 0 w 327240"/>
              <a:gd name="textAreaRight" fmla="*/ 327600 w 3272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66" h="141">
                <a:moveTo>
                  <a:pt x="0" y="62"/>
                </a:moveTo>
                <a:lnTo>
                  <a:pt x="80" y="141"/>
                </a:lnTo>
                <a:lnTo>
                  <a:pt x="200" y="108"/>
                </a:lnTo>
                <a:lnTo>
                  <a:pt x="266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ovéPole 10"/>
          <p:cNvSpPr/>
          <p:nvPr/>
        </p:nvSpPr>
        <p:spPr>
          <a:xfrm>
            <a:off x="4140360" y="1341360"/>
            <a:ext cx="489564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uze osobní vla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ástečně přestupy, někdy přímo či spojené vlaky směr Zábřeh/Lanškro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ýšit počet spo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ůsledně vést přímé vla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íždět touto linkou stanici Třebovice v Čechá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10: úsek Pardubice – Česká Třeb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3833640"/>
            <a:ext cx="554508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ilný přepravní potenciál v dopravní ose měst Pardubice – Choceň – Ústí n. Orlicí – Česká Třeb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řeba kvalitnějšího napojení Králicka, Letohradska, i ve směru do Pol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tížné trasování pomalých vlaků vzhledem k vysokému počtu vlaků na koridorové tr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špičce v Bezpráví obvykle 1 cestující (za celý den celkem asi 15), zastávka mimo osídl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836640"/>
            <a:ext cx="4033800" cy="2517840"/>
          </a:xfrm>
          <a:prstGeom prst="rect">
            <a:avLst/>
          </a:prstGeom>
          <a:ln w="0">
            <a:noFill/>
          </a:ln>
        </p:spPr>
      </p:pic>
      <p:sp>
        <p:nvSpPr>
          <p:cNvPr id="68" name="Freeform 4"/>
          <p:cNvSpPr/>
          <p:nvPr/>
        </p:nvSpPr>
        <p:spPr>
          <a:xfrm>
            <a:off x="1598760" y="1290600"/>
            <a:ext cx="1401480" cy="480960"/>
          </a:xfrm>
          <a:custGeom>
            <a:avLst/>
            <a:gdLst>
              <a:gd name="textAreaLeft" fmla="*/ 0 w 1401480"/>
              <a:gd name="textAreaRight" fmla="*/ 1401840 w 140148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029" h="330">
                <a:moveTo>
                  <a:pt x="0" y="0"/>
                </a:moveTo>
                <a:lnTo>
                  <a:pt x="204" y="48"/>
                </a:lnTo>
                <a:lnTo>
                  <a:pt x="474" y="48"/>
                </a:lnTo>
                <a:lnTo>
                  <a:pt x="732" y="72"/>
                </a:lnTo>
                <a:lnTo>
                  <a:pt x="945" y="147"/>
                </a:lnTo>
                <a:lnTo>
                  <a:pt x="1029" y="33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2"/>
          <a:stretch/>
        </p:blipFill>
        <p:spPr>
          <a:xfrm>
            <a:off x="6012000" y="4149720"/>
            <a:ext cx="3024000" cy="26272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0"/>
          <p:cNvSpPr/>
          <p:nvPr/>
        </p:nvSpPr>
        <p:spPr>
          <a:xfrm>
            <a:off x="4356000" y="765000"/>
            <a:ext cx="4788000" cy="32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stávkové osobní vla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lo spěšných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nzivní dálková dopr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 v přiměřeném rozsa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rychlení a zvýšení počtu Sp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st. Bezpráví nahradit autobusy přes obec Orlické Podhůří (rekreační doprava bude zachová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ovéPole 11"/>
          <p:cNvSpPr/>
          <p:nvPr/>
        </p:nvSpPr>
        <p:spPr>
          <a:xfrm>
            <a:off x="6012000" y="386064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d0d0d"/>
                </a:solidFill>
                <a:latin typeface="Arial"/>
              </a:rPr>
              <a:t>Využití zastávky Bezpráví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15: úsek Přelouč – Prachovi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17: úsek Heřmanův Městec – Chrudim mě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3409560"/>
            <a:ext cx="352908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 Prachovic souběh s autobusy, nízké využití všech vlak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jení lze velmi kvalitně zajistit výrazně levnější autobusovou dopravou (přestupy na vlaky v Heřmanově Měst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1125360"/>
            <a:ext cx="3456000" cy="2157480"/>
          </a:xfrm>
          <a:prstGeom prst="rect">
            <a:avLst/>
          </a:prstGeom>
          <a:ln w="0">
            <a:noFill/>
          </a:ln>
        </p:spPr>
      </p:pic>
      <p:sp>
        <p:nvSpPr>
          <p:cNvPr id="75" name="Freeform 5"/>
          <p:cNvSpPr/>
          <p:nvPr/>
        </p:nvSpPr>
        <p:spPr>
          <a:xfrm>
            <a:off x="1150920" y="1486080"/>
            <a:ext cx="138240" cy="428400"/>
          </a:xfrm>
          <a:custGeom>
            <a:avLst/>
            <a:gdLst>
              <a:gd name="textAreaLeft" fmla="*/ 0 w 138240"/>
              <a:gd name="textAreaRight" fmla="*/ 138600 w 13824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120" h="387">
                <a:moveTo>
                  <a:pt x="0" y="0"/>
                </a:moveTo>
                <a:lnTo>
                  <a:pt x="120" y="249"/>
                </a:lnTo>
                <a:lnTo>
                  <a:pt x="60" y="387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>
            <a:off x="1300320" y="1690560"/>
            <a:ext cx="277560" cy="47880"/>
          </a:xfrm>
          <a:custGeom>
            <a:avLst/>
            <a:gdLst>
              <a:gd name="textAreaLeft" fmla="*/ 0 w 277560"/>
              <a:gd name="textAreaRight" fmla="*/ 277920 w 2775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40" h="42">
                <a:moveTo>
                  <a:pt x="0" y="42"/>
                </a:moveTo>
                <a:lnTo>
                  <a:pt x="24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ovéPole 9"/>
          <p:cNvSpPr/>
          <p:nvPr/>
        </p:nvSpPr>
        <p:spPr>
          <a:xfrm>
            <a:off x="4067280" y="1177920"/>
            <a:ext cx="507672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rudim – Heřmanův Městec: doprava neobjednávána již od prosince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chovice – Heřmanův Městec: omezený provoz od prosince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eřmanův Městec – Přelouč: Osobní vlaky denn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hrada autobusy Heřmanův Městec - Pracho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3780000" y="3841920"/>
            <a:ext cx="5216400" cy="1358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3780000" y="5281560"/>
            <a:ext cx="5222880" cy="135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4"/>
          <a:stretch/>
        </p:blipFill>
        <p:spPr>
          <a:xfrm>
            <a:off x="3780000" y="3481560"/>
            <a:ext cx="5217840" cy="317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5"/>
          <a:stretch/>
        </p:blipFill>
        <p:spPr>
          <a:xfrm>
            <a:off x="82440" y="5718240"/>
            <a:ext cx="3635640" cy="9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16: Chrudim – Moravany – Holice - Borohrád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3500280"/>
            <a:ext cx="889308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hrudim – Moravany: Úsek je celkově málo vytížen cestujícími, nelze odůvodnit další rozšiřování provozu. Zároveň je však jeden pár školních spojů obsazen velmi silně a je obtížné jej nahradit autobusy. Zast. Tuněchody leží mimo osídlení, a není proto využívána. Bude nahrazena autobus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ravany – Holice: Kvalitní umístění zastávek, silný potenciál růstu počtu cestujících. V cílovém stavu přímé vlaky z Pardubic (nyní 200 os./den, potenciál dalšího růstu díky možnostem zrychlení dopravy), odlehčení autobusové dopravě. To je však podmíněno nasazením moderních vozi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olice – Borohrádek: vynechaná sídla, pouze asi 50 cestujících za celý 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1125360"/>
            <a:ext cx="3745080" cy="2149560"/>
          </a:xfrm>
          <a:prstGeom prst="rect">
            <a:avLst/>
          </a:prstGeom>
          <a:ln w="0">
            <a:noFill/>
          </a:ln>
        </p:spPr>
      </p:pic>
      <p:sp>
        <p:nvSpPr>
          <p:cNvPr id="85" name="Freeform 5"/>
          <p:cNvSpPr/>
          <p:nvPr/>
        </p:nvSpPr>
        <p:spPr>
          <a:xfrm>
            <a:off x="1619280" y="1341360"/>
            <a:ext cx="563400" cy="476280"/>
          </a:xfrm>
          <a:custGeom>
            <a:avLst/>
            <a:gdLst>
              <a:gd name="textAreaLeft" fmla="*/ 0 w 563400"/>
              <a:gd name="textAreaRight" fmla="*/ 563760 w 5634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450" h="438">
                <a:moveTo>
                  <a:pt x="0" y="438"/>
                </a:moveTo>
                <a:lnTo>
                  <a:pt x="0" y="312"/>
                </a:lnTo>
                <a:lnTo>
                  <a:pt x="192" y="330"/>
                </a:lnTo>
                <a:lnTo>
                  <a:pt x="228" y="204"/>
                </a:lnTo>
                <a:lnTo>
                  <a:pt x="342" y="84"/>
                </a:lnTo>
                <a:lnTo>
                  <a:pt x="45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ovéPole 8"/>
          <p:cNvSpPr/>
          <p:nvPr/>
        </p:nvSpPr>
        <p:spPr>
          <a:xfrm>
            <a:off x="4211640" y="981000"/>
            <a:ext cx="48243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obní vla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rudim – Moravany stávající koncepce, průjezd zastávkou Tuněch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ravany – Holice postupné posilování provozu a dle možností rozvoj přímých vlaků z Pardub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lice – Borohrádek náhrada autobu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4726080" y="6021360"/>
            <a:ext cx="423864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4716360" y="5732640"/>
            <a:ext cx="4248360" cy="26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4703760" y="6443640"/>
            <a:ext cx="4268880" cy="279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324000" y="5661000"/>
            <a:ext cx="4248000" cy="10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9280" y="765000"/>
            <a:ext cx="3689280" cy="2303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18: úsek Choceň – Litomy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240" y="3382920"/>
            <a:ext cx="88916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je v období 6. a 14. hodiny vykazují silnější využití do/z zast. Dvořisko (10-15 osob), ostatní vlaky zastavují většinou pro 0-2 cestují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motná místní část Dvořisko se nachází mimo železnici, a je obsloužena autobu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utobusové zastávky v Litomyšli i Vys. Mýtě umístěny lépe z hlediska dostup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obsazenost Vys. Mýto – Litomyšl mimo špičkové hodiny je v nahrazovaném úseku pouze cca 15 osob/spo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omezovaném úseku lze nahradit železnici výrazně levnější autobusovou doprav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hrada páteřní linkou Svitavy – Litomyšl – Vysoké Mýto – Hr. Králové a obslužnými autobusy pro menší sídla (z Litomyšle se navíc připravují rychlé autobusové přípoje k dálkovým vlakům do Chocně a České Třebové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4"/>
          <p:cNvSpPr/>
          <p:nvPr/>
        </p:nvSpPr>
        <p:spPr>
          <a:xfrm>
            <a:off x="2077920" y="1306440"/>
            <a:ext cx="304920" cy="389160"/>
          </a:xfrm>
          <a:custGeom>
            <a:avLst/>
            <a:gdLst>
              <a:gd name="textAreaLeft" fmla="*/ 0 w 304920"/>
              <a:gd name="textAreaRight" fmla="*/ 305280 w 30492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264" h="316">
                <a:moveTo>
                  <a:pt x="134" y="0"/>
                </a:moveTo>
                <a:lnTo>
                  <a:pt x="0" y="118"/>
                </a:lnTo>
                <a:lnTo>
                  <a:pt x="90" y="238"/>
                </a:lnTo>
                <a:lnTo>
                  <a:pt x="264" y="316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ovéPole 8"/>
          <p:cNvSpPr/>
          <p:nvPr/>
        </p:nvSpPr>
        <p:spPr>
          <a:xfrm>
            <a:off x="3995640" y="692280"/>
            <a:ext cx="4969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laky Choceň – Vysoké Mýto město s přestupy do Litomyš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jezd zast. Dvořisko (mimo osídlení) s výjimkou „dělnických“ spo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. Mýto město – Litomyšl: omezení provoz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020: úsek Choceň - Borohrád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3573000"/>
            <a:ext cx="4464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ůvodně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imálně využitá stanice Újezd u Chocně se nachází zcela mimo osídlení a v blízkosti zast. Plchův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luha obce Újezd bude zajištěna pravidelnou autobusovou linkou Choceň – Horní Jelení – Ho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víkendech zastaví 4 páry osobních vlak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stávka Plchůvky je také velmi málo využívána, nicméně autobusová obsluha by zde byla značně komplikovaná (nevyhovující silniční síť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60360" y="1173240"/>
            <a:ext cx="3706920" cy="2314440"/>
          </a:xfrm>
          <a:prstGeom prst="rect">
            <a:avLst/>
          </a:prstGeom>
          <a:ln w="0">
            <a:noFill/>
          </a:ln>
        </p:spPr>
      </p:pic>
      <p:sp>
        <p:nvSpPr>
          <p:cNvPr id="99" name="Freeform 5"/>
          <p:cNvSpPr/>
          <p:nvPr/>
        </p:nvSpPr>
        <p:spPr>
          <a:xfrm>
            <a:off x="2124000" y="1413000"/>
            <a:ext cx="270000" cy="255600"/>
          </a:xfrm>
          <a:custGeom>
            <a:avLst/>
            <a:gdLst>
              <a:gd name="textAreaLeft" fmla="*/ 0 w 270000"/>
              <a:gd name="textAreaRight" fmla="*/ 270360 w 270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62" h="57">
                <a:moveTo>
                  <a:pt x="0" y="0"/>
                </a:moveTo>
                <a:lnTo>
                  <a:pt x="162" y="57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4211640" y="1268280"/>
            <a:ext cx="48243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 i Sp vlaky, převážně dle požadavků Královéhradeckého kr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ávající koncepce, průjezd žst. Újezd u Chocně v pracovní d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300720" y="3357720"/>
            <a:ext cx="774720" cy="153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10544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21: úsek (Hr. Králové -) Potštejn – Letoh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981000"/>
            <a:ext cx="4032360" cy="25178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5"/>
          <p:cNvSpPr/>
          <p:nvPr/>
        </p:nvSpPr>
        <p:spPr>
          <a:xfrm>
            <a:off x="2943360" y="1251000"/>
            <a:ext cx="298440" cy="162000"/>
          </a:xfrm>
          <a:custGeom>
            <a:avLst/>
            <a:gdLst/>
            <a:ahLst/>
            <a:rect l="l" t="t" r="r" b="b"/>
            <a:pathLst>
              <a:path w="3737" h="8260">
                <a:moveTo>
                  <a:pt x="0" y="0"/>
                </a:moveTo>
                <a:lnTo>
                  <a:pt x="3737" y="826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ovéPole 8"/>
          <p:cNvSpPr/>
          <p:nvPr/>
        </p:nvSpPr>
        <p:spPr>
          <a:xfrm>
            <a:off x="4716360" y="907920"/>
            <a:ext cx="4319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binace spěšných vlaků přímo z Hr. Králové a osobních vlaků s pře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 prosince 2010 návrat přímých spojů Hr. Králové - Letohr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dukce osobních vla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jezdy zastávek Sopotni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Lukavice v Čechá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757840" y="4941720"/>
            <a:ext cx="2965320" cy="191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6578640" y="4762440"/>
            <a:ext cx="1173240" cy="18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1838160" y="4800600"/>
            <a:ext cx="640080" cy="195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11280" y="4941720"/>
            <a:ext cx="3117600" cy="1916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840" y="3389040"/>
            <a:ext cx="88203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důvodně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Zastávky Sopotnice a Lukavice v Čechách minimálně využity, budou nahrazeny autobusem v centru osídl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pojení autobusem Letohrad – Žamberk (pro obec Lukavice) stejně jako Ústí nad Orlicí – Potštejn – Vamberk (pro obec Sopotnice) je zajištěno celotýdenně páteřními linkami se značným počtem spojů, počet cest z Lukavice do jiných měst je minimál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24: úsek Ústí nad Orlicí – Letohrad - Lich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3762000"/>
            <a:ext cx="85690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ůvodně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třeba kvalitnějšího napojení Králicka a Letohradska do centra regio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pěšné vlaky budou mít v Pardubicích přípoje na vlaky IC/EC směr Pra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sobní vlaky zajistí spojení pro mezilehlé obce a místní části za současného posílení počtu spojů pro města Jablonné nad Orlicí a Letoh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Letohradě budou zajištěny přípoje ze směru Lichkov na spěšné vlaky směr Hradec Králov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ást spěšných vlaků zajistí spojení z Pardubického kraje (a s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stupem též z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y) do Polska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9280" y="1052640"/>
            <a:ext cx="3672000" cy="2328840"/>
          </a:xfrm>
          <a:prstGeom prst="rect">
            <a:avLst/>
          </a:prstGeom>
          <a:ln w="0">
            <a:noFill/>
          </a:ln>
        </p:spPr>
      </p:pic>
      <p:sp>
        <p:nvSpPr>
          <p:cNvPr id="115" name="TextovéPole 11"/>
          <p:cNvSpPr/>
          <p:nvPr/>
        </p:nvSpPr>
        <p:spPr>
          <a:xfrm>
            <a:off x="3924360" y="1268280"/>
            <a:ext cx="50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ávající stav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vážně zastávkové vla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vr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ílení počtu přímých spěšných vlaků z Pardub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chování osobních vlaků s návazností na rychlíky v Ústí nad Orli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5"/>
          <p:cNvSpPr/>
          <p:nvPr/>
        </p:nvSpPr>
        <p:spPr>
          <a:xfrm>
            <a:off x="2576520" y="1284120"/>
            <a:ext cx="533520" cy="400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3721" y="3613"/>
                </a:lnTo>
                <a:lnTo>
                  <a:pt x="1000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0:38:27Z</dcterms:created>
  <dc:creator>Nenutil</dc:creator>
  <dc:description/>
  <dc:language>en-US</dc:language>
  <cp:lastModifiedBy>admin</cp:lastModifiedBy>
  <dcterms:modified xsi:type="dcterms:W3CDTF">2011-06-01T06:21:56Z</dcterms:modified>
  <cp:revision>168</cp:revision>
  <dc:subject/>
  <dc:title>Snímek 1</dc:title>
</cp:coreProperties>
</file>