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360" y="-6910560"/>
            <a:ext cx="360" cy="152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cs-CZ" sz="2000" spc="-1" strike="noStrike">
              <a:solidFill>
                <a:srgbClr val="ff0000"/>
              </a:solidFill>
              <a:latin typeface="Times New Roman"/>
              <a:ea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cs-CZ" sz="2000" spc="-1" strike="noStrike">
              <a:solidFill>
                <a:srgbClr val="ff0000"/>
              </a:solidFill>
              <a:latin typeface="Times New Roman"/>
              <a:ea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cs-CZ" sz="2000" spc="-1" strike="noStrike">
              <a:solidFill>
                <a:srgbClr val="ff0000"/>
              </a:solidFill>
              <a:latin typeface="Times New Roman"/>
              <a:ea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cs-CZ" sz="2000" spc="-1" strike="noStrike">
              <a:solidFill>
                <a:srgbClr val="ff0000"/>
              </a:solidFill>
              <a:latin typeface="Times New Roman"/>
              <a:ea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cs-CZ" sz="2000" spc="-1" strike="noStrike">
              <a:solidFill>
                <a:srgbClr val="ff0000"/>
              </a:solidFill>
              <a:latin typeface="Times New Roman"/>
              <a:ea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cs-CZ" sz="2000" spc="-1" strike="noStrike">
              <a:solidFill>
                <a:srgbClr val="ff0000"/>
              </a:solidFill>
              <a:latin typeface="Times New Roman"/>
              <a:ea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77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81600"/>
            <a:ext cx="79977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7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480"/>
            <a:ext cx="39027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81600"/>
            <a:ext cx="39027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81600"/>
            <a:ext cx="39027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5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480"/>
            <a:ext cx="2575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480"/>
            <a:ext cx="2575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81600"/>
            <a:ext cx="2575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1600"/>
            <a:ext cx="2575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81600"/>
            <a:ext cx="2575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77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77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7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480"/>
            <a:ext cx="39027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55600"/>
            <a:ext cx="79981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7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480"/>
            <a:ext cx="39027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81600"/>
            <a:ext cx="39027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7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480"/>
            <a:ext cx="39027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81600"/>
            <a:ext cx="39027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7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480"/>
            <a:ext cx="39027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81600"/>
            <a:ext cx="79977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79977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1760" indent="-3938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3873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0880" indent="-39852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609480" y="1566720"/>
            <a:ext cx="7956720" cy="109800"/>
            <a:chOff x="609480" y="1566720"/>
            <a:chExt cx="7956720" cy="109800"/>
          </a:xfrm>
        </p:grpSpPr>
        <p:sp>
          <p:nvSpPr>
            <p:cNvPr id="3" name="Freeform 4"/>
            <p:cNvSpPr/>
            <p:nvPr/>
          </p:nvSpPr>
          <p:spPr>
            <a:xfrm>
              <a:off x="609480" y="1566720"/>
              <a:ext cx="4655160" cy="109800"/>
            </a:xfrm>
            <a:custGeom>
              <a:avLst/>
              <a:gdLst>
                <a:gd name="textAreaLeft" fmla="*/ 0 w 4655160"/>
                <a:gd name="textAreaRight" fmla="*/ 4655520 w 46551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2933" h="307">
                  <a:moveTo>
                    <a:pt x="0" y="0"/>
                  </a:moveTo>
                  <a:lnTo>
                    <a:pt x="12932" y="0"/>
                  </a:lnTo>
                  <a:lnTo>
                    <a:pt x="12932" y="306"/>
                  </a:lnTo>
                  <a:lnTo>
                    <a:pt x="0" y="306"/>
                  </a:lnTo>
                  <a:lnTo>
                    <a:pt x="0" y="0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609480" y="1566720"/>
              <a:ext cx="7956720" cy="1440"/>
            </a:xfrm>
            <a:custGeom>
              <a:avLst/>
              <a:gdLst>
                <a:gd name="textAreaLeft" fmla="*/ 0 w 7956720"/>
                <a:gd name="textAreaRight" fmla="*/ 7957080 w 7956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2108" h="1">
                  <a:moveTo>
                    <a:pt x="0" y="0"/>
                  </a:moveTo>
                  <a:lnTo>
                    <a:pt x="22107" y="0"/>
                  </a:lnTo>
                  <a:lnTo>
                    <a:pt x="0" y="0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Line 6"/>
            <p:cNvSpPr/>
            <p:nvPr/>
          </p:nvSpPr>
          <p:spPr>
            <a:xfrm>
              <a:off x="609480" y="1566720"/>
              <a:ext cx="7956720" cy="1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Line 7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6012000" y="6210360"/>
            <a:ext cx="2555640" cy="603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velke"/>
          <p:cNvPicPr/>
          <p:nvPr/>
        </p:nvPicPr>
        <p:blipFill>
          <a:blip r:embed="rId2"/>
          <a:stretch/>
        </p:blipFill>
        <p:spPr>
          <a:xfrm>
            <a:off x="371520" y="1477800"/>
            <a:ext cx="8448480" cy="1879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95280" y="3645000"/>
            <a:ext cx="8353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66560" indent="-466560"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4200" spc="-1" strike="noStrike">
                <a:solidFill>
                  <a:srgbClr val="3366cc"/>
                </a:solidFill>
                <a:latin typeface="Arial"/>
              </a:rPr>
              <a:t>O</a:t>
            </a: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rganizátor </a:t>
            </a:r>
            <a:r>
              <a:rPr b="1" lang="cs-CZ" sz="4200" spc="-1" strike="noStrike">
                <a:solidFill>
                  <a:srgbClr val="3366cc"/>
                </a:solidFill>
                <a:latin typeface="Arial"/>
              </a:rPr>
              <a:t>RE</a:t>
            </a: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gionální </a:t>
            </a:r>
            <a:r>
              <a:rPr b="1" lang="cs-CZ" sz="4200" spc="-1" strike="noStrike">
                <a:solidFill>
                  <a:srgbClr val="3366cc"/>
                </a:solidFill>
                <a:latin typeface="Arial"/>
              </a:rPr>
              <a:t>DO</a:t>
            </a: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prav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 Královéhradeckém a Pardubickém kraj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866520"/>
            <a:ext cx="8001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Minimalizace počtu vozid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873080"/>
            <a:ext cx="8496360" cy="42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20000"/>
              </a:lnSpc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Minimální počet vozidel určuje zajištění dopravy v ranní špič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20000"/>
              </a:lnSpc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Lze ho dosáhnout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Lucida Sans Unicode"/>
              </a:rPr>
              <a:t>opuštěním tradičních časových polo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Lucida Sans Unicode"/>
              </a:rPr>
              <a:t>posunem začátku školního vyučo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20000"/>
              </a:lnSpc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Každé uspořené vozidlo přináší roční úsporu cca 750 tis.K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012000" y="6210360"/>
            <a:ext cx="255564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866520"/>
            <a:ext cx="8001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Maximální využití vozid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907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20000"/>
              </a:lnSpc>
              <a:spcBef>
                <a:spcPts val="25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S rostoucím počtem ujetých kilometrů klesá úměrně cena dopravního výkon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(dochází k rozmělnění fixních nákladů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20000"/>
              </a:lnSpc>
              <a:spcBef>
                <a:spcPts val="25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Objednání dalšího výkonu obcemi pouze za variabilní nákla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(cca 15 Kč/km místo dnešních 30 Kč/k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012000" y="6210360"/>
            <a:ext cx="255564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866520"/>
            <a:ext cx="8001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Nasazení malých vozid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80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Nutné vytvořit speciální oběhy vozi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Úspora variabilních nákladů v důsledku nižší spotřeby PH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6012000" y="6210360"/>
            <a:ext cx="2555640" cy="603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V:\OREDO PK\Prezentace\11 05 18 Prezentace Pardubice ORP\Podklady\VDAILY_red_uprava.jpg"/>
          <p:cNvPicPr/>
          <p:nvPr/>
        </p:nvPicPr>
        <p:blipFill>
          <a:blip r:embed="rId2"/>
          <a:stretch/>
        </p:blipFill>
        <p:spPr>
          <a:xfrm>
            <a:off x="2475000" y="3573360"/>
            <a:ext cx="6116400" cy="327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38280" y="1898280"/>
            <a:ext cx="796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>
              <a:lnSpc>
                <a:spcPct val="110000"/>
              </a:lnSpc>
              <a:spcBef>
                <a:spcPts val="799"/>
              </a:spcBef>
              <a:spcAft>
                <a:spcPts val="1400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lná integrace znamená provázanost všech druhů dopravy a to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5000"/>
              </a:lnSpc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Prostorovou (těsné přestupy, terminály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5000"/>
              </a:lnSpc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Časovou (návaznosti, čekací doby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5000"/>
              </a:lnSpc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Tarifní (jedna jízdenka na celém území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5000"/>
              </a:lnSpc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Informační (informační systém, souhrnný jízdní řád a odjezdník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V čem spočívá integra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6012000" y="6210360"/>
            <a:ext cx="25556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 je </a:t>
            </a: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dopravní systém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IRED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830240"/>
            <a:ext cx="86407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500" spc="-1" strike="noStrike">
                <a:solidFill>
                  <a:srgbClr val="000000"/>
                </a:solidFill>
                <a:latin typeface="Verdana"/>
              </a:rPr>
              <a:t>IREDO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tegrovaná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RE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gionální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ava) propojuje drážní, autobusovou a městskou dopra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prava je provázána, zpravidelněna a její rozsah je zpravidla navýš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7" descr="V:\=IMAGE_CD= OREDO\logo_tisk_A4.gif"/>
          <p:cNvPicPr/>
          <p:nvPr/>
        </p:nvPicPr>
        <p:blipFill>
          <a:blip r:embed="rId1"/>
          <a:stretch/>
        </p:blipFill>
        <p:spPr>
          <a:xfrm>
            <a:off x="3780000" y="1844640"/>
            <a:ext cx="4824360" cy="82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6012000" y="6210360"/>
            <a:ext cx="255564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Tarif IRED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0728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1000"/>
              </a:lnSpc>
              <a:spcBef>
                <a:spcPts val="11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ónově-relační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ar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lnSpc>
                <a:spcPct val="101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(zastávky zařazeny do zón, cena mezi zónami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1000"/>
              </a:lnSpc>
              <a:spcBef>
                <a:spcPts val="18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ožnost přestupů mezi dopravci na jednu jízdenku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(vlak-bus, bus-bu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1000"/>
              </a:lnSpc>
              <a:spcBef>
                <a:spcPts val="18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ena jízdného se odvozuje od nejběžnější vzdálenosti po silnici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(neplatí se zajížďky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1000"/>
              </a:lnSpc>
              <a:spcBef>
                <a:spcPts val="18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asové slev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101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(týdenní a měsíční jízdné, síťová jízdenk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6012000" y="6210360"/>
            <a:ext cx="2555640" cy="603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8840" y="836640"/>
            <a:ext cx="7985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arifní mapa IRE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V:\JŘ 2010 2011\0 Tarifní mapy IREDO\Tarifní mapy od 2010-12-12 JPG\Hradec Králové.jpg"/>
          <p:cNvPicPr/>
          <p:nvPr/>
        </p:nvPicPr>
        <p:blipFill>
          <a:blip r:embed="rId2"/>
          <a:stretch/>
        </p:blipFill>
        <p:spPr>
          <a:xfrm>
            <a:off x="0" y="460440"/>
            <a:ext cx="9144000" cy="642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560" y="873000"/>
            <a:ext cx="8245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Celkové shrnutí přínosů projektů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9440" y="1801440"/>
            <a:ext cx="856620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1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Lucida Sans Unicode"/>
              </a:rPr>
              <a:t>Zlepšená dostupnost celého regionu.</a:t>
            </a:r>
            <a:r>
              <a:rPr b="0" i="1" lang="cs-CZ" sz="24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1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Lucida Sans Unicode"/>
              </a:rPr>
              <a:t>Dobré spojení z malých obcí na hlavní páteř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1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Lucida Sans Unicode"/>
              </a:rPr>
              <a:t>Rovnoměrnější nabídka, jistota přepravy po celý d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1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Lucida Sans Unicode"/>
              </a:rPr>
              <a:t>Efektivnější využití přepravní kapacit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1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Lucida Sans Unicode"/>
              </a:rPr>
              <a:t>Stálé návaznosti na taktových linkách. Lepší vazby mezi vlaky a autobus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1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Lucida Sans Unicode"/>
              </a:rPr>
              <a:t>Nárůst počtu přepravených osob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1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Lucida Sans Unicode"/>
              </a:rPr>
              <a:t>Lépe vyhovuje také turistů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1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Lucida Sans Unicode"/>
              </a:rPr>
              <a:t>Dlouhodobě vede k lepšímu pokrytí přepravních potřeb v regionu.</a:t>
            </a: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12000" y="6210360"/>
            <a:ext cx="255564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Stručný harmono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539640" y="1739880"/>
            <a:ext cx="6669360" cy="43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1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říprava 1.návrhu jízdních řádů (JŘ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1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jednání JŘ s dopravci průběžně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1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jednávání 1.návrhu JŘ s obcemi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1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Zapracování připomínek obcí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1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Závěrečné projednání JŘ s dopravc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1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Zveřejnění konečného JŘ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1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Zveřejněný tarifu IRED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1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Zahájení propagační kampaně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1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Zahájení provozu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012000" y="6210360"/>
            <a:ext cx="2555640" cy="603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5219640" y="1743120"/>
            <a:ext cx="3529080" cy="43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 algn="r">
              <a:lnSpc>
                <a:spcPct val="11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100" spc="-1" strike="noStrike">
                <a:solidFill>
                  <a:srgbClr val="ff0000"/>
                </a:solidFill>
                <a:latin typeface="Verdana"/>
              </a:rPr>
              <a:t>do 30. 6.201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 algn="r">
              <a:lnSpc>
                <a:spcPct val="11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100" spc="-1" strike="noStrike">
                <a:solidFill>
                  <a:srgbClr val="ff0000"/>
                </a:solidFill>
                <a:latin typeface="Verdana"/>
              </a:rPr>
              <a:t>od 10. 6. do 1. 8.201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 algn="r">
              <a:lnSpc>
                <a:spcPct val="11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100" spc="-1" strike="noStrike">
                <a:solidFill>
                  <a:srgbClr val="ff0000"/>
                </a:solidFill>
                <a:latin typeface="Verdana"/>
              </a:rPr>
              <a:t>od 1. 7. do 31.8.201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 algn="r">
              <a:lnSpc>
                <a:spcPct val="11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100" spc="-1" strike="noStrike">
                <a:solidFill>
                  <a:srgbClr val="ff0000"/>
                </a:solidFill>
                <a:latin typeface="Verdana"/>
              </a:rPr>
              <a:t>od 20. 7. do 16. 9.201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 algn="r">
              <a:lnSpc>
                <a:spcPct val="11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100" spc="-1" strike="noStrike">
                <a:solidFill>
                  <a:srgbClr val="ff0000"/>
                </a:solidFill>
                <a:latin typeface="Verdana"/>
              </a:rPr>
              <a:t>od 1. 9. do 30. 9.201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 algn="r">
              <a:lnSpc>
                <a:spcPct val="11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100" spc="-1" strike="noStrike">
                <a:solidFill>
                  <a:srgbClr val="ff0000"/>
                </a:solidFill>
                <a:latin typeface="Verdana"/>
              </a:rPr>
              <a:t>1.10.201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 algn="r">
              <a:lnSpc>
                <a:spcPct val="11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100" spc="-1" strike="noStrike">
                <a:solidFill>
                  <a:srgbClr val="ff0000"/>
                </a:solidFill>
                <a:latin typeface="Verdana"/>
              </a:rPr>
              <a:t>1. 9.201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 algn="r">
              <a:lnSpc>
                <a:spcPct val="11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100" spc="-1" strike="noStrike">
                <a:solidFill>
                  <a:srgbClr val="ff0000"/>
                </a:solidFill>
                <a:latin typeface="Verdana"/>
              </a:rPr>
              <a:t>Od 1.11.201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 algn="r">
              <a:lnSpc>
                <a:spcPct val="11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100" spc="-1" strike="noStrike">
                <a:solidFill>
                  <a:srgbClr val="ff0000"/>
                </a:solidFill>
                <a:latin typeface="Verdana"/>
              </a:rPr>
              <a:t>11.12.201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D:\Data\Grafika\Informační\10 12 06 WEB JŘ k 12.12.2010\letak_jr_WEB.jpg"/>
          <p:cNvPicPr/>
          <p:nvPr/>
        </p:nvPicPr>
        <p:blipFill>
          <a:blip r:embed="rId1"/>
          <a:stretch/>
        </p:blipFill>
        <p:spPr>
          <a:xfrm>
            <a:off x="1116000" y="2462040"/>
            <a:ext cx="7272360" cy="3630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Propagace sytému IRED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566640" y="1844640"/>
            <a:ext cx="8253360" cy="46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1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ešitové jízdní řá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01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plňkové informační materiá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01000"/>
              </a:lnSpc>
              <a:spcBef>
                <a:spcPts val="649"/>
              </a:spcBef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tarif, jak cestovat, jak ušetřit aj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01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ediální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01000"/>
              </a:lnSpc>
              <a:spcBef>
                <a:spcPts val="649"/>
              </a:spcBef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rádio, televize, tiskové zprávy aj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01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etáky propagující nové sp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01000"/>
              </a:lnSpc>
              <a:spcBef>
                <a:spcPts val="649"/>
              </a:spcBef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víkendové spoje, náhrada vlaku aj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01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formační články v místních zpravodají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01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6012000" y="6210360"/>
            <a:ext cx="255564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4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5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lavní úkoly společnosti ORED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Organizace autobusové</a:t>
            </a: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drážní doprav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Analýza autobusové</a:t>
            </a: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drážní doprav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Optimalizace dopravní obslužn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Integrace veřejné doprav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Dopravní poradenstv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Komunikace se zástupci měst a obcí (řešení připomínek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Propagace veřejné doprav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6012000" y="6210360"/>
            <a:ext cx="255564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Modernizace odbavení a dispečin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566640" y="1844640"/>
            <a:ext cx="8001000" cy="34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1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.8.2011 Zahájení realizace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3760" indent="-466560">
              <a:lnSpc>
                <a:spcPct val="101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moderní odbavení pomocí bezkontaktní čipové karty v obou krají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3760" indent="-466560">
              <a:lnSpc>
                <a:spcPct val="101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Dispečerský systém řízení (sledovaní vozidel pomocí G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01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.8.2012 – 31.11.2012 Pilotní projek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01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31.1.2013 Ukončení celého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012000" y="6210360"/>
            <a:ext cx="255564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841680"/>
            <a:ext cx="8001000" cy="6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Děkujeme za pozor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539640" y="2673360"/>
            <a:ext cx="8209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spcBef>
                <a:spcPts val="601"/>
              </a:spcBef>
              <a:tabLst>
                <a:tab algn="l" pos="0"/>
                <a:tab algn="l" pos="42876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Organizátor regionální dopravy v KHK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 a PK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dopravní optimalizace a dopravní poradenst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249"/>
              </a:spcBef>
              <a:tabLst>
                <a:tab algn="l" pos="0"/>
                <a:tab algn="l" pos="42876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spcBef>
                <a:spcPts val="249"/>
              </a:spcBef>
              <a:spcAft>
                <a:spcPts val="1199"/>
              </a:spcAft>
              <a:tabLst>
                <a:tab algn="l" pos="0"/>
                <a:tab algn="l" pos="42876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áměstí Republiky 12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530 02 Pardub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2876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mail: </a:t>
            </a:r>
            <a:r>
              <a:rPr b="1" lang="cs-CZ" sz="2400" spc="-1" strike="noStrike" u="sng">
                <a:solidFill>
                  <a:srgbClr val="3366cc"/>
                </a:solidFill>
                <a:uFillTx/>
                <a:latin typeface="Verdana"/>
              </a:rPr>
              <a:t>oredopk</a:t>
            </a:r>
            <a:r>
              <a:rPr b="1" lang="en-GB" sz="2400" spc="-1" strike="noStrike" u="sng">
                <a:solidFill>
                  <a:srgbClr val="3366cc"/>
                </a:solidFill>
                <a:uFillTx/>
                <a:latin typeface="Verdana"/>
              </a:rPr>
              <a:t>@oredo.c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2876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eb: </a:t>
            </a: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www.oredo.c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2876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tel.: 466 03 07 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531720" y="1886400"/>
            <a:ext cx="8001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OREDO s.r.o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012000" y="6210360"/>
            <a:ext cx="25556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Zděděné problémy v dopravě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928880"/>
            <a:ext cx="849636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Množství souběh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Dráha a autobusy – dva málo provázané převážně konkurenční systé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Nízké proběhy vozi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Jízdní řády již neodpovídají stávajícím potřebám cestující veřejn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Klesající podíl veřejné dopravy vůči rostoucí individuální automobilové doprav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012000" y="6210360"/>
            <a:ext cx="255564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834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Zodpovědnost</a:t>
            </a: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 organizáto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66640" y="2041560"/>
            <a:ext cx="80377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000"/>
              </a:lnSpc>
              <a:spcBef>
                <a:spcPts val="1199"/>
              </a:spcBef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Hlavním úkolem organizátora je zefektivnění a zkvalitnění veřejné dopravy v Pardubickém a Královéhradeckém kraj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1800"/>
              </a:spcBef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Zefektivnění lze dosáhnout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OPTIMALIZACÍ </a:t>
            </a: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a zkvalitnění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INTEGRACÍ</a:t>
            </a: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 veřejné doprav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12000" y="6210360"/>
            <a:ext cx="2555640" cy="6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560" y="928440"/>
            <a:ext cx="83901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rvní úkoly OREDA v Pardubickém kraj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2491920"/>
            <a:ext cx="84963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2000"/>
              </a:lnSpc>
              <a:spcBef>
                <a:spcPts val="2401"/>
              </a:spcBef>
              <a:spcAft>
                <a:spcPts val="24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Lucida Sans Unicode"/>
              </a:rPr>
              <a:t>Optimalizace železniční doprav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2000"/>
              </a:lnSpc>
              <a:spcBef>
                <a:spcPts val="2401"/>
              </a:spcBef>
              <a:spcAft>
                <a:spcPts val="24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Lucida Sans Unicode"/>
              </a:rPr>
              <a:t>Optimalizace autobusové doprav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2000"/>
              </a:lnSpc>
              <a:spcBef>
                <a:spcPts val="2401"/>
              </a:spcBef>
              <a:spcAft>
                <a:spcPts val="24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Lucida Sans Unicode"/>
              </a:rPr>
              <a:t>Zavedení zónově-relačního tarifu IRE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012000" y="6210360"/>
            <a:ext cx="255564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Optimalizace železniční doprav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922040"/>
            <a:ext cx="849636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Posouzení významu železničních tratí pro veřejnou dopravu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Tratě s velkým význam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Lucida Sans Unicode"/>
              </a:rPr>
              <a:t>Posílení dopravy zavedením spěšných vla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Lucida Sans Unicode"/>
              </a:rPr>
              <a:t>Zavedení tak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Tratě s malým význam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Lucida Sans Unicode"/>
              </a:rPr>
              <a:t>Zvážení náhrady autobusovou dopravou, která lépe obslouží přilehlé ob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6560"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012000" y="6210360"/>
            <a:ext cx="255564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560" y="873000"/>
            <a:ext cx="8569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Optimalizace autobusové doprav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1816200"/>
            <a:ext cx="8496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30000"/>
              </a:lnSpc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Stanovení páteřních lin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30000"/>
              </a:lnSpc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Zavedení taktu do veřejné doprav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30000"/>
              </a:lnSpc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Minimalizace počtu vozi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30000"/>
              </a:lnSpc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Maximální využití vozi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30000"/>
              </a:lnSpc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Nasazení malých vozi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30000"/>
              </a:lnSpc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Nový způsob financová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012000" y="6210360"/>
            <a:ext cx="255564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866520"/>
            <a:ext cx="8001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Stanovení páteřních line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" name="Group 7"/>
          <p:cNvGrpSpPr/>
          <p:nvPr/>
        </p:nvGrpSpPr>
        <p:grpSpPr>
          <a:xfrm>
            <a:off x="826920" y="2060640"/>
            <a:ext cx="7993080" cy="1239840"/>
            <a:chOff x="826920" y="2060640"/>
            <a:chExt cx="7993080" cy="1239840"/>
          </a:xfrm>
        </p:grpSpPr>
        <p:grpSp>
          <p:nvGrpSpPr>
            <p:cNvPr id="70" name="Group 8"/>
            <p:cNvGrpSpPr/>
            <p:nvPr/>
          </p:nvGrpSpPr>
          <p:grpSpPr>
            <a:xfrm>
              <a:off x="826920" y="2060640"/>
              <a:ext cx="7993080" cy="1239840"/>
              <a:chOff x="826920" y="2060640"/>
              <a:chExt cx="7993080" cy="1239840"/>
            </a:xfrm>
          </p:grpSpPr>
          <p:sp>
            <p:nvSpPr>
              <p:cNvPr id="71" name="Oval 9"/>
              <p:cNvSpPr/>
              <p:nvPr/>
            </p:nvSpPr>
            <p:spPr>
              <a:xfrm>
                <a:off x="826920" y="2652840"/>
                <a:ext cx="505080" cy="5050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Oval 10"/>
              <p:cNvSpPr/>
              <p:nvPr/>
            </p:nvSpPr>
            <p:spPr>
              <a:xfrm>
                <a:off x="7236000" y="2437200"/>
                <a:ext cx="1584000" cy="863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11"/>
              <p:cNvSpPr/>
              <p:nvPr/>
            </p:nvSpPr>
            <p:spPr>
              <a:xfrm flipV="1">
                <a:off x="1042920" y="2939760"/>
                <a:ext cx="6913800" cy="1800"/>
              </a:xfrm>
              <a:prstGeom prst="line">
                <a:avLst/>
              </a:prstGeom>
              <a:ln w="38160">
                <a:solidFill>
                  <a:srgbClr val="006c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Oval 12"/>
              <p:cNvSpPr/>
              <p:nvPr/>
            </p:nvSpPr>
            <p:spPr>
              <a:xfrm>
                <a:off x="4427640" y="2941920"/>
                <a:ext cx="215640" cy="216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13"/>
              <p:cNvSpPr/>
              <p:nvPr/>
            </p:nvSpPr>
            <p:spPr>
              <a:xfrm flipV="1">
                <a:off x="1332000" y="2508120"/>
                <a:ext cx="431640" cy="2890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Oval 14"/>
              <p:cNvSpPr/>
              <p:nvPr/>
            </p:nvSpPr>
            <p:spPr>
              <a:xfrm>
                <a:off x="1692360" y="2292480"/>
                <a:ext cx="215640" cy="216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Oval 15"/>
              <p:cNvSpPr/>
              <p:nvPr/>
            </p:nvSpPr>
            <p:spPr>
              <a:xfrm>
                <a:off x="1042920" y="2076840"/>
                <a:ext cx="216000" cy="215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16"/>
              <p:cNvSpPr/>
              <p:nvPr/>
            </p:nvSpPr>
            <p:spPr>
              <a:xfrm flipH="1" flipV="1">
                <a:off x="1187280" y="2149560"/>
                <a:ext cx="648000" cy="2160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>
                <a:off x="1117440" y="2152800"/>
                <a:ext cx="55800" cy="7160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716040"/>
                  <a:gd name="textAreaBottom" fmla="*/ 716040 h 716040"/>
                </a:gdLst>
                <a:ahLst/>
                <a:rect l="textAreaLeft" t="textAreaTop" r="textAreaRight" b="textAreaBottom"/>
                <a:pathLst>
                  <a:path w="35" h="451">
                    <a:moveTo>
                      <a:pt x="35" y="0"/>
                    </a:moveTo>
                    <a:lnTo>
                      <a:pt x="0" y="451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>
                <a:off x="1050840" y="2060640"/>
                <a:ext cx="6919920" cy="824040"/>
              </a:xfrm>
              <a:custGeom>
                <a:avLst/>
                <a:gdLst>
                  <a:gd name="textAreaLeft" fmla="*/ 0 w 6919920"/>
                  <a:gd name="textAreaRight" fmla="*/ 6920280 w 6919920"/>
                  <a:gd name="textAreaTop" fmla="*/ 0 h 824040"/>
                  <a:gd name="textAreaBottom" fmla="*/ 824400 h 824040"/>
                </a:gdLst>
                <a:ahLst/>
                <a:rect l="textAreaLeft" t="textAreaTop" r="textAreaRight" b="textAreaBottom"/>
                <a:pathLst>
                  <a:path w="4359" h="519">
                    <a:moveTo>
                      <a:pt x="0" y="519"/>
                    </a:moveTo>
                    <a:lnTo>
                      <a:pt x="48" y="0"/>
                    </a:lnTo>
                    <a:lnTo>
                      <a:pt x="509" y="163"/>
                    </a:lnTo>
                    <a:lnTo>
                      <a:pt x="1268" y="490"/>
                    </a:lnTo>
                    <a:lnTo>
                      <a:pt x="4359" y="499"/>
                    </a:ln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9"/>
              <p:cNvSpPr/>
              <p:nvPr/>
            </p:nvSpPr>
            <p:spPr>
              <a:xfrm>
                <a:off x="2987640" y="2868840"/>
                <a:ext cx="216000" cy="216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20"/>
              <p:cNvSpPr/>
              <p:nvPr/>
            </p:nvSpPr>
            <p:spPr>
              <a:xfrm>
                <a:off x="5869080" y="2797560"/>
                <a:ext cx="215640" cy="215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" name="Line 21"/>
            <p:cNvSpPr/>
            <p:nvPr/>
          </p:nvSpPr>
          <p:spPr>
            <a:xfrm flipH="1">
              <a:off x="1547280" y="2364120"/>
              <a:ext cx="12956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WordArt 22"/>
            <p:cNvSpPr txBox="1"/>
            <p:nvPr/>
          </p:nvSpPr>
          <p:spPr>
            <a:xfrm>
              <a:off x="4716360" y="2076840"/>
              <a:ext cx="432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 Black"/>
                </a:rPr>
                <a:t>4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" name="WordArt 23"/>
            <p:cNvSpPr txBox="1"/>
            <p:nvPr/>
          </p:nvSpPr>
          <p:spPr>
            <a:xfrm>
              <a:off x="2771640" y="2076840"/>
              <a:ext cx="432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 Black"/>
                </a:rPr>
                <a:t>10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" name="Line 24"/>
            <p:cNvSpPr/>
            <p:nvPr/>
          </p:nvSpPr>
          <p:spPr>
            <a:xfrm flipH="1">
              <a:off x="3708360" y="2364120"/>
              <a:ext cx="122256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2720" y="3716280"/>
            <a:ext cx="82072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1000"/>
              </a:lnSpc>
              <a:spcBef>
                <a:spcPts val="2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Zrušení přímých linek umožní častější spojení se spádovým mě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101000"/>
              </a:lnSpc>
              <a:spcBef>
                <a:spcPts val="2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Podmínkou je dosažení stejné nebo kratší jízdní dob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012000" y="6210360"/>
            <a:ext cx="255564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Taktový JŘ výřez"/>
          <p:cNvPicPr/>
          <p:nvPr/>
        </p:nvPicPr>
        <p:blipFill>
          <a:blip r:embed="rId1"/>
          <a:stretch/>
        </p:blipFill>
        <p:spPr>
          <a:xfrm>
            <a:off x="576360" y="2279520"/>
            <a:ext cx="8532720" cy="4389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318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Zavedení taktu do veřejné doprav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11280" y="1773360"/>
            <a:ext cx="770400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Příklad taktového jízdního řádu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539640" y="3357720"/>
            <a:ext cx="8604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539640" y="3933720"/>
            <a:ext cx="860436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539640" y="5300640"/>
            <a:ext cx="860436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539640" y="6093000"/>
            <a:ext cx="860436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611280" y="5157720"/>
            <a:ext cx="8532720" cy="146808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Přínosy taktu :</a:t>
            </a: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Lucida Sans Unicode"/>
              </a:rPr>
              <a:t>- lehká zapamatovatel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1000"/>
              </a:lnSpc>
              <a:spcBef>
                <a:spcPts val="649"/>
              </a:spcBef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 nárůst cestujících až o 15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%</a:t>
            </a:r>
            <a:r>
              <a:rPr b="0" lang="cs-CZ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chazka</cp:lastModifiedBy>
  <dcterms:modified xsi:type="dcterms:W3CDTF">2011-05-20T08:34:17Z</dcterms:modified>
  <cp:revision>110</cp:revision>
  <dc:subject/>
  <dc:title>Organizátor regionální dopravy společnost založená a vlastněná Královéhradeckým krajem</dc:title>
</cp:coreProperties>
</file>