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160" bIns="47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02084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02084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</a:pPr>
            <a:fld id="{222EE3EF-01BD-4B35-A956-82A3AE03B1B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</a:pPr>
            <a:fld id="{35A7AB13-34C8-4041-B153-8A136F036C9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</a:pPr>
            <a:fld id="{99EBB87E-409B-4183-8561-181671949CE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</a:pPr>
            <a:fld id="{F2B0F600-6173-4BF9-81CD-74E53288C66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</a:pPr>
            <a:fld id="{C1613161-2A13-4BD2-8E80-1B3C181C80C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</a:pPr>
            <a:fld id="{B4D68DA5-73A1-49AD-A3D5-88EE5E13F93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</a:pPr>
            <a:fld id="{301738F8-566B-473E-952E-692E465D7ED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</a:pPr>
            <a:fld id="{1A182621-B260-4E0C-975E-784095FADED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</a:pPr>
            <a:fld id="{45363588-EB96-4008-B192-B4573539C8F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</a:pPr>
            <a:fld id="{5D69E776-606B-4F8A-8A34-A8E30FC9751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</a:pPr>
            <a:fld id="{D69526FB-9D35-42DA-B320-4F150832CF9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</a:pPr>
            <a:fld id="{8CDCF900-3A34-4913-9138-F36B91101FF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</a:pPr>
            <a:fld id="{C750B257-2514-465B-B97F-607D315652A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</a:pPr>
            <a:fld id="{CC0EE271-EC81-4B62-8BC4-B5ACDEC58A9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</a:pPr>
            <a:fld id="{788F88FE-9940-4012-B1C2-9BAA287302E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</a:pPr>
            <a:fld id="{CCCA9ABA-0853-4F9D-966C-F911122EE1E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</a:pPr>
            <a:fld id="{6A42E5E5-742B-44A0-B233-C56C6B0AE83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</a:pPr>
            <a:fld id="{6BACD639-5A3D-411F-B89E-4E5A063764A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</a:pPr>
            <a:fld id="{DDFABE02-55AE-4753-9006-7DF88E1D730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</a:pPr>
            <a:fld id="{A12BFFE5-34A2-4E6E-8CB3-8EF4556269D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</a:pPr>
            <a:fld id="{77D40E32-C0ED-48C8-9197-8B8FC01A998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BDBB-7CD7-49B6-8719-02AFE49F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C921-4166-4CAA-A815-B05EEC0F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5B84-244A-47AA-AAB3-16E2659A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313B-946D-4941-A186-416CE2F70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1FE0-E9F8-4F25-AEF0-C64DF217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3244-4DC0-4775-9E0C-5D60415C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4E6E-13BE-4054-A70C-6EEEB1C1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B6CE-9DFE-467F-89B2-3A734AB1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C05B-C793-4434-8CA0-6A304521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240C-DE9F-4749-82B6-95AADB9D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86C2-1C3B-42C8-9681-0736AABA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886E-ABB7-4E34-977C-ACF340A4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0190EF4-3F64-4BEE-B9CA-1B70D93F9CD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0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image" Target="../media/image55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9280" y="5157360"/>
            <a:ext cx="828036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/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>
            <a:alphaModFix amt="12000"/>
          </a:blip>
          <a:stretch/>
        </p:blipFill>
        <p:spPr>
          <a:xfrm>
            <a:off x="1547640" y="1052640"/>
            <a:ext cx="5935680" cy="3962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324000" y="2276640"/>
            <a:ext cx="849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ásady železniční dopravy na území Pardubického kraje od roku 20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826920" y="5516640"/>
            <a:ext cx="1600200" cy="485640"/>
          </a:xfrm>
          <a:prstGeom prst="rect">
            <a:avLst/>
          </a:prstGeom>
          <a:ln w="0">
            <a:noFill/>
          </a:ln>
        </p:spPr>
      </p:pic>
      <p:sp>
        <p:nvSpPr>
          <p:cNvPr id="53" name="TextovéPole 5"/>
          <p:cNvSpPr/>
          <p:nvPr/>
        </p:nvSpPr>
        <p:spPr>
          <a:xfrm>
            <a:off x="7308720" y="18900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loha č.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0" descr=""/>
          <p:cNvPicPr/>
          <p:nvPr/>
        </p:nvPicPr>
        <p:blipFill>
          <a:blip r:embed="rId1"/>
          <a:stretch/>
        </p:blipFill>
        <p:spPr>
          <a:xfrm>
            <a:off x="6335640" y="6021360"/>
            <a:ext cx="2808360" cy="7239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24: úsek Lichkov - Králíky – Štíty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25: úsek Dolní Lipka - Hanušo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920" y="3141720"/>
            <a:ext cx="87120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důvodně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Počty cestujících z Králík směr Štíty prudce klesají z nejvýše 120 os. za celý den až na pouhých 40 (stanice Štíty je mimo město, nutný souběh autobusů po silnici I.tříd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Do Hanušovic asi 40 osob/den, trať míjí („objíždí“) místní spádové centrum Králí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Doprava v úsecích Králíky – Štíty resp. Hanušovice bude kvalitně nahrazena mnohem levnější autobusovou dopravou (přímé autobusy do Lanškrouna, ski-/cyklobus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V Lichkově bude zajištěna návaznost autobusů na spěšné vlaky z Pardub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95280" y="1125360"/>
            <a:ext cx="3240000" cy="2022480"/>
          </a:xfrm>
          <a:prstGeom prst="rect">
            <a:avLst/>
          </a:prstGeom>
          <a:ln w="0">
            <a:noFill/>
          </a:ln>
        </p:spPr>
      </p:pic>
      <p:sp>
        <p:nvSpPr>
          <p:cNvPr id="121" name="Freeform 5"/>
          <p:cNvSpPr/>
          <p:nvPr/>
        </p:nvSpPr>
        <p:spPr>
          <a:xfrm>
            <a:off x="2954160" y="1319040"/>
            <a:ext cx="376560" cy="381240"/>
          </a:xfrm>
          <a:custGeom>
            <a:avLst/>
            <a:gdLst/>
            <a:ahLst/>
            <a:rect l="l" t="t" r="r" b="b"/>
            <a:pathLst>
              <a:path w="10000" h="11788">
                <a:moveTo>
                  <a:pt x="0" y="492"/>
                </a:moveTo>
                <a:lnTo>
                  <a:pt x="3248" y="164"/>
                </a:lnTo>
                <a:lnTo>
                  <a:pt x="10000" y="1066"/>
                </a:lnTo>
                <a:lnTo>
                  <a:pt x="3333" y="0"/>
                </a:lnTo>
                <a:cubicBezTo>
                  <a:pt x="3762" y="3333"/>
                  <a:pt x="4288" y="8455"/>
                  <a:pt x="4717" y="11788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ovéPole 6"/>
          <p:cNvSpPr/>
          <p:nvPr/>
        </p:nvSpPr>
        <p:spPr>
          <a:xfrm>
            <a:off x="3851280" y="1268280"/>
            <a:ext cx="504180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ávající stav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sobní vlaky, do Hanušovic s přestupy v Dolní Lip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vr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hrada vlaků v úseku Moravský Karlov - Štíty a Dolní Lipka – Hanušovice autobusovou doprav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3"/>
          <a:stretch/>
        </p:blipFill>
        <p:spPr>
          <a:xfrm>
            <a:off x="179280" y="5662440"/>
            <a:ext cx="3240360" cy="290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4"/>
          <a:stretch/>
        </p:blipFill>
        <p:spPr>
          <a:xfrm>
            <a:off x="179280" y="5157720"/>
            <a:ext cx="3240360" cy="39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5"/>
          <a:stretch/>
        </p:blipFill>
        <p:spPr>
          <a:xfrm>
            <a:off x="179280" y="4870440"/>
            <a:ext cx="3241800" cy="206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6"/>
          <a:stretch/>
        </p:blipFill>
        <p:spPr>
          <a:xfrm>
            <a:off x="3564000" y="4869000"/>
            <a:ext cx="3024000" cy="610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7"/>
          <a:stretch/>
        </p:blipFill>
        <p:spPr>
          <a:xfrm>
            <a:off x="3564000" y="5516640"/>
            <a:ext cx="3024000" cy="691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/>
          <p:cNvPicPr/>
          <p:nvPr/>
        </p:nvPicPr>
        <p:blipFill>
          <a:blip r:embed="rId8"/>
          <a:stretch/>
        </p:blipFill>
        <p:spPr>
          <a:xfrm>
            <a:off x="239760" y="5961240"/>
            <a:ext cx="302400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31: úsek Pardubice – Hradec Král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4103280"/>
            <a:ext cx="8928000" cy="27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důvodně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ivedení MHD Pardubice k nádraží v Rosicích (zkrácení cesty směr Polabiny) znamená potenciál dalšího zvýšení atraktivity spojení pro cestujíc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 technologických důvodů může být nutné částečně omezit obsluhu žst. Stéblová, která se však nachází mimo stejnojmennou obec. Ta bude (stejně jako lokalita u stanice) obsloužena autobus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mezení (ostatních) souběžných autobusů Pardubice – Hradec Králov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 budoucnu (postupně podle zdvojkolejňování) další zkracování interval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d roku 2012 postupné posilování role zrychlených spojů při zachování obsluhy zastáv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sažením přestupních vazeb současně v Hradci Králové i Pardubicích dochází ke zrychlení doprav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50920" y="1484280"/>
            <a:ext cx="4037040" cy="2521080"/>
          </a:xfrm>
          <a:prstGeom prst="rect">
            <a:avLst/>
          </a:prstGeom>
          <a:ln w="0">
            <a:noFill/>
          </a:ln>
        </p:spPr>
      </p:pic>
      <p:sp>
        <p:nvSpPr>
          <p:cNvPr id="132" name="Freeform 5"/>
          <p:cNvSpPr/>
          <p:nvPr/>
        </p:nvSpPr>
        <p:spPr>
          <a:xfrm>
            <a:off x="1467000" y="1484280"/>
            <a:ext cx="152280" cy="493920"/>
          </a:xfrm>
          <a:custGeom>
            <a:avLst/>
            <a:gdLst>
              <a:gd name="textAreaLeft" fmla="*/ 0 w 152280"/>
              <a:gd name="textAreaRight" fmla="*/ 152640 w 15228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108" h="348">
                <a:moveTo>
                  <a:pt x="108" y="348"/>
                </a:moveTo>
                <a:lnTo>
                  <a:pt x="0" y="228"/>
                </a:lnTo>
                <a:lnTo>
                  <a:pt x="24" y="102"/>
                </a:lnTo>
                <a:lnTo>
                  <a:pt x="54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ovéPole 8"/>
          <p:cNvSpPr/>
          <p:nvPr/>
        </p:nvSpPr>
        <p:spPr>
          <a:xfrm>
            <a:off x="4356000" y="1268280"/>
            <a:ext cx="4608720" cy="32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ávající stav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é i zastávkové vlaky převážně každou hodin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avrhovaný stav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ílčí omezení zastávkových vlak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výšení rozsahu provoz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výšení podílu spěšných vlak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lepšení přípojů v Pardubicí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236: úsek Třemošnice – Žleby (- Čásla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3357720"/>
            <a:ext cx="8856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ůvodněn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utnost souběžného vedení autobusové linky z Pardubického kraje - trať až na výjimky špatně obsluhuje obce, je velmi pomalá (delší než vhodným autobus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ředočeský kraj má zájem trať nadále provozov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50920" y="907920"/>
            <a:ext cx="3960720" cy="2473560"/>
          </a:xfrm>
          <a:prstGeom prst="rect">
            <a:avLst/>
          </a:prstGeom>
          <a:ln w="0">
            <a:noFill/>
          </a:ln>
        </p:spPr>
      </p:pic>
      <p:sp>
        <p:nvSpPr>
          <p:cNvPr id="137" name="Freeform 5"/>
          <p:cNvSpPr/>
          <p:nvPr/>
        </p:nvSpPr>
        <p:spPr>
          <a:xfrm>
            <a:off x="900000" y="1773360"/>
            <a:ext cx="257400" cy="90360"/>
          </a:xfrm>
          <a:custGeom>
            <a:avLst/>
            <a:gdLst>
              <a:gd name="textAreaLeft" fmla="*/ 0 w 257400"/>
              <a:gd name="textAreaRight" fmla="*/ 257760 w 25740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162" h="57">
                <a:moveTo>
                  <a:pt x="0" y="0"/>
                </a:moveTo>
                <a:lnTo>
                  <a:pt x="162" y="57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ovéPole 8"/>
          <p:cNvSpPr/>
          <p:nvPr/>
        </p:nvSpPr>
        <p:spPr>
          <a:xfrm>
            <a:off x="4284720" y="981000"/>
            <a:ext cx="4680000" cy="27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ávající stav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sobní vlaky souběžně s autobusy, spíše dle požadavků Středočeského kra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vrh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yní zachování stávajícího rozsahu a podoby provoz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250920" y="5803920"/>
            <a:ext cx="4537080" cy="809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3"/>
          <a:stretch/>
        </p:blipFill>
        <p:spPr>
          <a:xfrm>
            <a:off x="250920" y="4724280"/>
            <a:ext cx="4551120" cy="289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"/>
          <p:cNvPicPr/>
          <p:nvPr/>
        </p:nvPicPr>
        <p:blipFill>
          <a:blip r:embed="rId4"/>
          <a:stretch/>
        </p:blipFill>
        <p:spPr>
          <a:xfrm>
            <a:off x="250920" y="5084640"/>
            <a:ext cx="4546440" cy="676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"/>
          <p:cNvPicPr/>
          <p:nvPr/>
        </p:nvPicPr>
        <p:blipFill>
          <a:blip r:embed="rId5"/>
          <a:stretch/>
        </p:blipFill>
        <p:spPr>
          <a:xfrm>
            <a:off x="4830840" y="5329080"/>
            <a:ext cx="4284720" cy="10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238: úsek Pardubice - Chrudim - Hlinsk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560" y="3715920"/>
            <a:ext cx="871380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důvodnění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soké využití cestujícími zejména do Chrudimi, nekvalitní silniční síť na Hlinec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ardubice – Chrudim (- Slatiňany) vyšší hustota spojů (příměstská doprav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estupy na návazné autobusy do více směrů v Chrasti, Žďárci a Hlins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jde k výraznému zatraktivnění relace Pardubice – Chrudim - Hlinsko páteřními spěšnými vlaky, na které budou navazovat autobusové lin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 vlaky také umožní rychlé spojení z Poličska na západ (Chrudim, Chotěboř) i přes náhradu vlaků Žďárec u Skutče – Pustá Kamenice autobu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ový koncept na trati je prvním krokem ke zkvalitnění nabídky dopravního spojení, které bude dále řešeno v souvislosti s pořizováním nových železničních vozi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dochází k nesouladu v regionální dopravě Pardubické kraje a Vysoči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50920" y="1413000"/>
            <a:ext cx="3574800" cy="2232000"/>
          </a:xfrm>
          <a:prstGeom prst="rect">
            <a:avLst/>
          </a:prstGeom>
          <a:ln w="0">
            <a:noFill/>
          </a:ln>
        </p:spPr>
      </p:pic>
      <p:sp>
        <p:nvSpPr>
          <p:cNvPr id="146" name="Freeform 5"/>
          <p:cNvSpPr/>
          <p:nvPr/>
        </p:nvSpPr>
        <p:spPr>
          <a:xfrm>
            <a:off x="1355760" y="1731960"/>
            <a:ext cx="331920" cy="461880"/>
          </a:xfrm>
          <a:custGeom>
            <a:avLst/>
            <a:gdLst>
              <a:gd name="textAreaLeft" fmla="*/ 0 w 331920"/>
              <a:gd name="textAreaRight" fmla="*/ 332280 w 3319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288" h="414">
                <a:moveTo>
                  <a:pt x="114" y="108"/>
                </a:moveTo>
                <a:lnTo>
                  <a:pt x="0" y="0"/>
                </a:lnTo>
                <a:lnTo>
                  <a:pt x="102" y="390"/>
                </a:lnTo>
                <a:lnTo>
                  <a:pt x="288" y="414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Freeform 5"/>
          <p:cNvSpPr/>
          <p:nvPr/>
        </p:nvSpPr>
        <p:spPr>
          <a:xfrm>
            <a:off x="1476360" y="2173320"/>
            <a:ext cx="314280" cy="550800"/>
          </a:xfrm>
          <a:custGeom>
            <a:avLst/>
            <a:gdLst>
              <a:gd name="textAreaLeft" fmla="*/ 0 w 314280"/>
              <a:gd name="textAreaRight" fmla="*/ 314640 w 314280"/>
              <a:gd name="textAreaTop" fmla="*/ 0 h 550800"/>
              <a:gd name="textAreaBottom" fmla="*/ 551160 h 550800"/>
            </a:gdLst>
            <a:ahLst/>
            <a:rect l="textAreaLeft" t="textAreaTop" r="textAreaRight" b="textAreaBottom"/>
            <a:pathLst>
              <a:path w="237" h="378">
                <a:moveTo>
                  <a:pt x="156" y="0"/>
                </a:moveTo>
                <a:lnTo>
                  <a:pt x="231" y="81"/>
                </a:lnTo>
                <a:lnTo>
                  <a:pt x="237" y="168"/>
                </a:lnTo>
                <a:lnTo>
                  <a:pt x="159" y="267"/>
                </a:lnTo>
                <a:lnTo>
                  <a:pt x="0" y="378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ovéPole 9"/>
          <p:cNvSpPr/>
          <p:nvPr/>
        </p:nvSpPr>
        <p:spPr>
          <a:xfrm>
            <a:off x="3814920" y="1276200"/>
            <a:ext cx="5329080" cy="23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ávající stav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vážně osobní vlaky, částečně zrychlené (malý počet Sp a 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vr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ílení železniční doprav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otenciálu Hlinecka a Skutečska zvýšením počtu spěšných vlak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chování rychlíků Pardubice - Jihla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53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60: úsek Česká Třebová - Svitavy - Leto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80" y="3357720"/>
            <a:ext cx="88567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důvodně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ez navrženého zrychlení nelze stihnout všechny potřebné přestupy (vlaky i autobus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sluha obcí autobusovou linkou v souběhu s tratí, výrazné zrychlení vlaků pro Svitav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Je vhodné další zkrácení intervalů (podmínkou je však shoda s Jihomoravským kraj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utobusové linky v okolí trati je nutné vést v každém případě (zastávky mimo osídle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9280" y="765000"/>
            <a:ext cx="3816360" cy="2382840"/>
          </a:xfrm>
          <a:prstGeom prst="rect">
            <a:avLst/>
          </a:prstGeom>
          <a:ln w="0">
            <a:noFill/>
          </a:ln>
        </p:spPr>
      </p:pic>
      <p:sp>
        <p:nvSpPr>
          <p:cNvPr id="152" name="Freeform 5"/>
          <p:cNvSpPr/>
          <p:nvPr/>
        </p:nvSpPr>
        <p:spPr>
          <a:xfrm>
            <a:off x="2771640" y="1628640"/>
            <a:ext cx="88920" cy="1128960"/>
          </a:xfrm>
          <a:custGeom>
            <a:avLst/>
            <a:gdLst>
              <a:gd name="textAreaLeft" fmla="*/ 0 w 88920"/>
              <a:gd name="textAreaRight" fmla="*/ 89280 w 88920"/>
              <a:gd name="textAreaTop" fmla="*/ 0 h 1128960"/>
              <a:gd name="textAreaBottom" fmla="*/ 1129320 h 1128960"/>
            </a:gdLst>
            <a:ahLst/>
            <a:rect l="textAreaLeft" t="textAreaTop" r="textAreaRight" b="textAreaBottom"/>
            <a:pathLst>
              <a:path w="70" h="885">
                <a:moveTo>
                  <a:pt x="0" y="0"/>
                </a:moveTo>
                <a:lnTo>
                  <a:pt x="10" y="309"/>
                </a:lnTo>
                <a:lnTo>
                  <a:pt x="10" y="745"/>
                </a:lnTo>
                <a:lnTo>
                  <a:pt x="70" y="885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ovéPole 8"/>
          <p:cNvSpPr/>
          <p:nvPr/>
        </p:nvSpPr>
        <p:spPr>
          <a:xfrm>
            <a:off x="4067280" y="692280"/>
            <a:ext cx="4897440" cy="33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ávající stav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bilní počet R, několik Os vlaků bez pravidelných interval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vrh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stávkami z Březové do Svitav převážně projíždět (pouze vlaky Sp/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vitavy – Č. Třebová mírná redukce počtu zastávkových spojů (komprom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výšení počtu přímých osobních vlaků z Březové nad Svitavou do Br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9" descr=""/>
          <p:cNvPicPr/>
          <p:nvPr/>
        </p:nvPicPr>
        <p:blipFill>
          <a:blip r:embed="rId2"/>
          <a:stretch/>
        </p:blipFill>
        <p:spPr>
          <a:xfrm>
            <a:off x="1117440" y="4687920"/>
            <a:ext cx="2455920" cy="2052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"/>
          <p:cNvPicPr/>
          <p:nvPr/>
        </p:nvPicPr>
        <p:blipFill>
          <a:blip r:embed="rId3"/>
          <a:stretch/>
        </p:blipFill>
        <p:spPr>
          <a:xfrm>
            <a:off x="6084720" y="4686480"/>
            <a:ext cx="2881440" cy="2068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4"/>
          <a:stretch/>
        </p:blipFill>
        <p:spPr>
          <a:xfrm>
            <a:off x="4068720" y="5629320"/>
            <a:ext cx="2000160" cy="228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5"/>
          <a:stretch/>
        </p:blipFill>
        <p:spPr>
          <a:xfrm>
            <a:off x="181080" y="5629320"/>
            <a:ext cx="895320" cy="21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61: úsek Svitavy – Polička – Pustá Kame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68360" y="765000"/>
            <a:ext cx="3456000" cy="2157480"/>
          </a:xfrm>
          <a:prstGeom prst="rect">
            <a:avLst/>
          </a:prstGeom>
          <a:ln w="0">
            <a:noFill/>
          </a:ln>
        </p:spPr>
      </p:pic>
      <p:sp>
        <p:nvSpPr>
          <p:cNvPr id="160" name="Freeform 5"/>
          <p:cNvSpPr/>
          <p:nvPr/>
        </p:nvSpPr>
        <p:spPr>
          <a:xfrm>
            <a:off x="2195640" y="1916280"/>
            <a:ext cx="628560" cy="106200"/>
          </a:xfrm>
          <a:custGeom>
            <a:avLst/>
            <a:gdLst>
              <a:gd name="textAreaLeft" fmla="*/ 0 w 628560"/>
              <a:gd name="textAreaRight" fmla="*/ 628920 w 62856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478" h="90">
                <a:moveTo>
                  <a:pt x="478" y="38"/>
                </a:moveTo>
                <a:lnTo>
                  <a:pt x="345" y="80"/>
                </a:lnTo>
                <a:lnTo>
                  <a:pt x="222" y="90"/>
                </a:lnTo>
                <a:lnTo>
                  <a:pt x="0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ovéPole 8"/>
          <p:cNvSpPr/>
          <p:nvPr/>
        </p:nvSpPr>
        <p:spPr>
          <a:xfrm>
            <a:off x="4067280" y="765000"/>
            <a:ext cx="4862520" cy="23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ávající stav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vážně zastávkové osobní vlaky, souběh s autobus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vrh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stávkami Vendolí, Květná, Květná zast., Pomezí a Pomezí zast. projíždě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azně zlepšit přestupy ve Svitavá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8920" y="2781000"/>
            <a:ext cx="88203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ůvodněn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utnost zajistit přípoje na vlaky a autobusy současně v Poličce i Svitavách a zároveň efektivní obraty vozidel znamená jízdní doby z Poličky oběma směry do 26 min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busy, obsluhující obce Pomezí, Květná a Vendolí, jsou nutné vzhledem k umístění železničních zastávek mimo osídl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 průběhu špičkové hodiny nastupuje v dotčených zastávkách průměrně 0,5-3 oso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hrazení autobusovou dopravou nebude znamenat prodloužení cestovní do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e Svitavách jsou autobusové zastávky umístěny lépe než železniční stan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tráta přípojů by ohrozila další existenci regionálních vlaků (ostatní úlohy by vyřešily autobus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4788000" y="4781520"/>
            <a:ext cx="2081160" cy="2076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3"/>
          <a:stretch/>
        </p:blipFill>
        <p:spPr>
          <a:xfrm>
            <a:off x="468360" y="4781520"/>
            <a:ext cx="2141640" cy="20764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4"/>
          <a:stretch/>
        </p:blipFill>
        <p:spPr>
          <a:xfrm>
            <a:off x="2646360" y="4772160"/>
            <a:ext cx="2084400" cy="2077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5"/>
          <a:stretch/>
        </p:blipFill>
        <p:spPr>
          <a:xfrm>
            <a:off x="6875640" y="4781520"/>
            <a:ext cx="2016000" cy="20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61: úsek Žďárec u Skutče – Pustá Kame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68360" y="1052640"/>
            <a:ext cx="3456000" cy="2158920"/>
          </a:xfrm>
          <a:prstGeom prst="rect">
            <a:avLst/>
          </a:prstGeom>
          <a:ln w="0">
            <a:noFill/>
          </a:ln>
        </p:spPr>
      </p:pic>
      <p:sp>
        <p:nvSpPr>
          <p:cNvPr id="169" name="Freeform 5"/>
          <p:cNvSpPr/>
          <p:nvPr/>
        </p:nvSpPr>
        <p:spPr>
          <a:xfrm>
            <a:off x="1917720" y="2030400"/>
            <a:ext cx="342720" cy="169920"/>
          </a:xfrm>
          <a:custGeom>
            <a:avLst/>
            <a:gdLst>
              <a:gd name="textAreaLeft" fmla="*/ 0 w 342720"/>
              <a:gd name="textAreaRight" fmla="*/ 343080 w 34272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77" h="171">
                <a:moveTo>
                  <a:pt x="0" y="0"/>
                </a:moveTo>
                <a:lnTo>
                  <a:pt x="277" y="171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ovéPole 9"/>
          <p:cNvSpPr/>
          <p:nvPr/>
        </p:nvSpPr>
        <p:spPr>
          <a:xfrm>
            <a:off x="4211640" y="981000"/>
            <a:ext cx="46814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ávající stav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sobní vlaky v celé trati ze Svita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louhé jízdní do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vrh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objednání osobní dopravy v prac. dny (mimo prázdnin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chována rekreační doprava, obnoven přímý vlak z Pardub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3212640"/>
            <a:ext cx="48592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důvodně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ízké využití cestujícími (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ve špičce jen méně než 10 os./hod.), dlouhé jízdní doby, nevýhodná poloha žel. sta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Výhodnější poloha autobusových zastávek, kratší cestovní doby z centra osídlení (Skuteč i další obce), spádovost vedle Skutče také směr Hlinsko, kam vlak neje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znamný rekreační potenciál, je proto vhodné zachovat turistickou dopr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Zkvalitněno spojení Polička – Chotěboř  (Chrudim) autobusy po silnici I/34, navazujícími na spěšné vlaky v Hlins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Polička - Pardubice: bus/vlak přes Choce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Přestupní vazby bus/vlak pro obce v okolí Skutče ve Žďárci u Skutč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4859280" y="3548160"/>
            <a:ext cx="4025880" cy="237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3"/>
          <a:stretch/>
        </p:blipFill>
        <p:spPr>
          <a:xfrm>
            <a:off x="4859280" y="3860640"/>
            <a:ext cx="4025880" cy="822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4"/>
          <a:stretch/>
        </p:blipFill>
        <p:spPr>
          <a:xfrm>
            <a:off x="4849920" y="4714920"/>
            <a:ext cx="4041720" cy="834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"/>
          <p:cNvPicPr/>
          <p:nvPr/>
        </p:nvPicPr>
        <p:blipFill>
          <a:blip r:embed="rId5"/>
          <a:stretch/>
        </p:blipFill>
        <p:spPr>
          <a:xfrm>
            <a:off x="4859280" y="5661000"/>
            <a:ext cx="41166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62: úsek Česká Třebová – Moravská Třeb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4292640"/>
            <a:ext cx="84247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důvodně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lak může sloužit jako dopravní páte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čekává se nasazení rekonstruovaných vozi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ůsledné provážení souprav až do České Třebové bez spojování vlaků a zavedení pravidelných intervalů mezi spoji může atraktivitu linky dále zvýš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jištění návazností v České Třebov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95280" y="1341360"/>
            <a:ext cx="3960720" cy="2473560"/>
          </a:xfrm>
          <a:prstGeom prst="rect">
            <a:avLst/>
          </a:prstGeom>
          <a:ln w="0">
            <a:noFill/>
          </a:ln>
        </p:spPr>
      </p:pic>
      <p:sp>
        <p:nvSpPr>
          <p:cNvPr id="179" name="Freeform 5"/>
          <p:cNvSpPr/>
          <p:nvPr/>
        </p:nvSpPr>
        <p:spPr>
          <a:xfrm>
            <a:off x="3092400" y="2278080"/>
            <a:ext cx="415800" cy="426960"/>
          </a:xfrm>
          <a:custGeom>
            <a:avLst/>
            <a:gdLst>
              <a:gd name="textAreaLeft" fmla="*/ 0 w 415800"/>
              <a:gd name="textAreaRight" fmla="*/ 416160 w 41580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314" h="337">
                <a:moveTo>
                  <a:pt x="0" y="0"/>
                </a:moveTo>
                <a:lnTo>
                  <a:pt x="194" y="217"/>
                </a:lnTo>
                <a:lnTo>
                  <a:pt x="314" y="337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ovéPole 8"/>
          <p:cNvSpPr/>
          <p:nvPr/>
        </p:nvSpPr>
        <p:spPr>
          <a:xfrm>
            <a:off x="4427640" y="1268280"/>
            <a:ext cx="4537080" cy="29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ávající stav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sobní vlaky, částečně spojované mezi Čes. Třebovou a Třebovicemi s jinými linkam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vrh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chování stávající koncep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amostatné vedení všech vlaků až do České Třebové resp. zpě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62: úsek Mor. Třebová – Chornice – Velké Opatovice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71: úsek Chornice – Ko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26920" y="981000"/>
            <a:ext cx="2881440" cy="1798560"/>
          </a:xfrm>
          <a:prstGeom prst="rect">
            <a:avLst/>
          </a:prstGeom>
          <a:ln w="0">
            <a:noFill/>
          </a:ln>
        </p:spPr>
      </p:pic>
      <p:sp>
        <p:nvSpPr>
          <p:cNvPr id="183" name="Freeform 5"/>
          <p:cNvSpPr/>
          <p:nvPr/>
        </p:nvSpPr>
        <p:spPr>
          <a:xfrm>
            <a:off x="3106800" y="1989000"/>
            <a:ext cx="369720" cy="4082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3442" y="4898"/>
                </a:lnTo>
                <a:lnTo>
                  <a:pt x="10000" y="10000"/>
                </a:lnTo>
                <a:lnTo>
                  <a:pt x="3128" y="4898"/>
                </a:lnTo>
                <a:lnTo>
                  <a:pt x="248" y="10000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ovéPole 8"/>
          <p:cNvSpPr/>
          <p:nvPr/>
        </p:nvSpPr>
        <p:spPr>
          <a:xfrm>
            <a:off x="4284720" y="1125360"/>
            <a:ext cx="41749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ávající stav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ěkolik párů málo využívaných osobních vlaků s přestu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vrh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hrada autobusovou doprav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2"/>
          <a:stretch/>
        </p:blipFill>
        <p:spPr>
          <a:xfrm>
            <a:off x="324000" y="5229360"/>
            <a:ext cx="4219560" cy="511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3"/>
          <a:stretch/>
        </p:blipFill>
        <p:spPr>
          <a:xfrm>
            <a:off x="4867200" y="5548320"/>
            <a:ext cx="4214880" cy="12492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2636640"/>
            <a:ext cx="86407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důvodně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rať je vedena zcela mimo osídlení, velmi nízké počty cestujících (asi 50 osob za celý den, v průměrné špičkové hodině do 10 osob celk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anice umístěny skoro vždy mimo osídlení (např. Jevíčko 1,5 km), je tak nutné vedení souběžných autobus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ojení bude výrazně kvalitněji zajištěno mnohem levnější autobusovou dopravou, vzniknou zcela nová nebo budou posílena dnes velmi omezená spojení (Jevíčko – Konice, Moravská Třebová – Moheln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9" descr=""/>
          <p:cNvPicPr/>
          <p:nvPr/>
        </p:nvPicPr>
        <p:blipFill>
          <a:blip r:embed="rId4"/>
          <a:stretch/>
        </p:blipFill>
        <p:spPr>
          <a:xfrm>
            <a:off x="0" y="6186600"/>
            <a:ext cx="2484360" cy="6699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"/>
          <p:cNvPicPr/>
          <p:nvPr/>
        </p:nvPicPr>
        <p:blipFill>
          <a:blip r:embed="rId5"/>
          <a:stretch/>
        </p:blipFill>
        <p:spPr>
          <a:xfrm>
            <a:off x="2484360" y="6186600"/>
            <a:ext cx="2382840" cy="6714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"/>
          <p:cNvPicPr/>
          <p:nvPr/>
        </p:nvPicPr>
        <p:blipFill>
          <a:blip r:embed="rId6"/>
          <a:stretch/>
        </p:blipFill>
        <p:spPr>
          <a:xfrm>
            <a:off x="324000" y="5950080"/>
            <a:ext cx="2152440" cy="152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"/>
          <p:cNvPicPr/>
          <p:nvPr/>
        </p:nvPicPr>
        <p:blipFill>
          <a:blip r:embed="rId7"/>
          <a:stretch/>
        </p:blipFill>
        <p:spPr>
          <a:xfrm>
            <a:off x="3132000" y="5950080"/>
            <a:ext cx="981360" cy="180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/>
          <p:cNvPicPr/>
          <p:nvPr/>
        </p:nvPicPr>
        <p:blipFill>
          <a:blip r:embed="rId8"/>
          <a:stretch/>
        </p:blipFill>
        <p:spPr>
          <a:xfrm>
            <a:off x="324000" y="4508640"/>
            <a:ext cx="4228920" cy="255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"/>
          <p:cNvPicPr/>
          <p:nvPr/>
        </p:nvPicPr>
        <p:blipFill>
          <a:blip r:embed="rId9"/>
          <a:stretch/>
        </p:blipFill>
        <p:spPr>
          <a:xfrm>
            <a:off x="324000" y="4797360"/>
            <a:ext cx="4225680" cy="397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10"/>
          <a:stretch/>
        </p:blipFill>
        <p:spPr>
          <a:xfrm>
            <a:off x="4867200" y="4395960"/>
            <a:ext cx="4213440" cy="111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70: úsek Česká Třebová – Zábřeh na Mora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4400" y="3760920"/>
            <a:ext cx="89550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důvodně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rať je sice rychlá, avšak mimo Krasíkov velmi špatně napojuje sídla a nevede v hlavním směru přirozené dojížďky (Lanškroun, popř. Moravská Třebová, mimo trať 27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nutná obsluha obcí autobusovými linkami směr Lanškroun (Mor. Třebová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ojení České Třebové se Zábřehem by bylo dostačující dálkovou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pravou jedno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za hodinu, avšak stávající jízdní řád rychlíků stále zachovává nerovnoměrné rozložení spoj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gionálními vlaky tak jezdí stále ještě významné množství cestujících, a při dojížďce do České Třebové je vlak výrazně rychlejš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gionální doprava tedy bude zachová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95280" y="1052640"/>
            <a:ext cx="4176720" cy="2608200"/>
          </a:xfrm>
          <a:prstGeom prst="rect">
            <a:avLst/>
          </a:prstGeom>
          <a:ln w="0">
            <a:noFill/>
          </a:ln>
        </p:spPr>
      </p:pic>
      <p:sp>
        <p:nvSpPr>
          <p:cNvPr id="198" name="Freeform 5"/>
          <p:cNvSpPr/>
          <p:nvPr/>
        </p:nvSpPr>
        <p:spPr>
          <a:xfrm>
            <a:off x="3244680" y="2030400"/>
            <a:ext cx="924120" cy="100080"/>
          </a:xfrm>
          <a:custGeom>
            <a:avLst/>
            <a:gdLst>
              <a:gd name="textAreaLeft" fmla="*/ 0 w 924120"/>
              <a:gd name="textAreaRight" fmla="*/ 924480 w 92412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662" h="79">
                <a:moveTo>
                  <a:pt x="0" y="0"/>
                </a:moveTo>
                <a:lnTo>
                  <a:pt x="38" y="79"/>
                </a:lnTo>
                <a:lnTo>
                  <a:pt x="362" y="19"/>
                </a:lnTo>
                <a:lnTo>
                  <a:pt x="662" y="55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ovéPole 8"/>
          <p:cNvSpPr/>
          <p:nvPr/>
        </p:nvSpPr>
        <p:spPr>
          <a:xfrm>
            <a:off x="4716360" y="1268280"/>
            <a:ext cx="4248360" cy="21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ávající stav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ěkolik párů Os vlak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álková dopra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vrh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chování stávající koncep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24000" y="692280"/>
            <a:ext cx="3240000" cy="20239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686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10: úsek (Kolín -) Kojice - Pardub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2708280"/>
            <a:ext cx="864252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důvodně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nkurenceschopné spojení Přelouč – Pardubice bude cestujícím nabídnuto každých 30 min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stavení by mohlo způsobit rozvázání přípojů v Pardubicí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e špičce nastupuje ve Svítkově a Opočínku do 4 osob/hod., celková obsazenost vlaků přitom činí asi 150 os./hod. s potenciálem dalšího růs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stávka Opočínek se nachází mimo osídlení, oblast je dobře obsloužena MHD směr Pardub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pojení do Přelouče bude v pracovní dny zajištěno posilovými vlaky, o víkendu autobusy MH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4"/>
          <p:cNvSpPr/>
          <p:nvPr/>
        </p:nvSpPr>
        <p:spPr>
          <a:xfrm>
            <a:off x="357120" y="1014480"/>
            <a:ext cx="1062000" cy="6984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669" h="44">
                <a:moveTo>
                  <a:pt x="0" y="0"/>
                </a:moveTo>
                <a:lnTo>
                  <a:pt x="255" y="8"/>
                </a:lnTo>
                <a:lnTo>
                  <a:pt x="447" y="14"/>
                </a:lnTo>
                <a:lnTo>
                  <a:pt x="669" y="44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ovéPole 8"/>
          <p:cNvSpPr/>
          <p:nvPr/>
        </p:nvSpPr>
        <p:spPr>
          <a:xfrm>
            <a:off x="3708360" y="765000"/>
            <a:ext cx="5291280" cy="20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ávající stav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sobní vla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enzivní dálková doprava (R, IC/E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vr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zi Pardubicemi a Přeloučí zrychlit část vlaků projetím zastávek s minimálním využití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1024" descr=""/>
          <p:cNvPicPr/>
          <p:nvPr/>
        </p:nvPicPr>
        <p:blipFill>
          <a:blip r:embed="rId2"/>
          <a:stretch/>
        </p:blipFill>
        <p:spPr>
          <a:xfrm>
            <a:off x="4884840" y="4726080"/>
            <a:ext cx="2128680" cy="2012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25" descr=""/>
          <p:cNvPicPr/>
          <p:nvPr/>
        </p:nvPicPr>
        <p:blipFill>
          <a:blip r:embed="rId3"/>
          <a:stretch/>
        </p:blipFill>
        <p:spPr>
          <a:xfrm>
            <a:off x="5965920" y="4411800"/>
            <a:ext cx="2190600" cy="342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26" descr=""/>
          <p:cNvPicPr/>
          <p:nvPr/>
        </p:nvPicPr>
        <p:blipFill>
          <a:blip r:embed="rId4"/>
          <a:stretch/>
        </p:blipFill>
        <p:spPr>
          <a:xfrm>
            <a:off x="1068480" y="4411800"/>
            <a:ext cx="2409840" cy="295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27" descr=""/>
          <p:cNvPicPr/>
          <p:nvPr/>
        </p:nvPicPr>
        <p:blipFill>
          <a:blip r:embed="rId5"/>
          <a:stretch/>
        </p:blipFill>
        <p:spPr>
          <a:xfrm>
            <a:off x="7045200" y="4797360"/>
            <a:ext cx="2098800" cy="1908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28" descr=""/>
          <p:cNvPicPr/>
          <p:nvPr/>
        </p:nvPicPr>
        <p:blipFill>
          <a:blip r:embed="rId6"/>
          <a:stretch/>
        </p:blipFill>
        <p:spPr>
          <a:xfrm>
            <a:off x="147600" y="4707000"/>
            <a:ext cx="2146320" cy="2019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29" descr=""/>
          <p:cNvPicPr/>
          <p:nvPr/>
        </p:nvPicPr>
        <p:blipFill>
          <a:blip r:embed="rId7"/>
          <a:stretch/>
        </p:blipFill>
        <p:spPr>
          <a:xfrm>
            <a:off x="2365200" y="4797360"/>
            <a:ext cx="2413080" cy="19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72: úsek Česká Třebová – Lanškr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8920" y="4005360"/>
            <a:ext cx="87836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důvodně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oto spojení má vysoký potenciál nárůstu poptávky po přepravě (zejména s ohledem na budoucí nasazení moderních vozidel nebo v případě zlepšení přestupů na autobusy v Lanškrouně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rať bude sloužit jako dopravní páteř, na kterou budou dále navazovat obslužné lin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ůjezd žst. Třebovice v Č. je nutný z důvodu obratů soupravy a přípojů v Č. Třebov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řebovice budou plně obslouženy linkami směr Moravská Třebová, resp. Zábřeh, směr Rudoltice (z toho jen část Lanškroun) jezdí z Třebovic cca 10 osob za celý den - bude možné využít linku směr Zábřeh na Moravě stejně jako přímé autobu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čekává se zkrácení jízdní doby v případě úprav infrastruktury v Lanškrou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95280" y="1413000"/>
            <a:ext cx="3673440" cy="2293920"/>
          </a:xfrm>
          <a:prstGeom prst="rect">
            <a:avLst/>
          </a:prstGeom>
          <a:ln w="0">
            <a:noFill/>
          </a:ln>
        </p:spPr>
      </p:pic>
      <p:sp>
        <p:nvSpPr>
          <p:cNvPr id="203" name="Freeform 4"/>
          <p:cNvSpPr/>
          <p:nvPr/>
        </p:nvSpPr>
        <p:spPr>
          <a:xfrm>
            <a:off x="2884320" y="2176560"/>
            <a:ext cx="327240" cy="163440"/>
          </a:xfrm>
          <a:custGeom>
            <a:avLst/>
            <a:gdLst>
              <a:gd name="textAreaLeft" fmla="*/ 0 w 327240"/>
              <a:gd name="textAreaRight" fmla="*/ 327600 w 3272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66" h="141">
                <a:moveTo>
                  <a:pt x="0" y="62"/>
                </a:moveTo>
                <a:lnTo>
                  <a:pt x="80" y="141"/>
                </a:lnTo>
                <a:lnTo>
                  <a:pt x="200" y="108"/>
                </a:lnTo>
                <a:lnTo>
                  <a:pt x="266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ovéPole 10"/>
          <p:cNvSpPr/>
          <p:nvPr/>
        </p:nvSpPr>
        <p:spPr>
          <a:xfrm>
            <a:off x="4140360" y="1341360"/>
            <a:ext cx="4895640" cy="30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ávající stav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uze osobní vla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ástečně přestupy, někdy přímo či spojené vlaky směr Zábřeh/Lanškro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vr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výšit počet spoj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ůsledně vést přímé vla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jíždět touto linkou stanici Třebovice v Čechá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6868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10: úsek Pardubice – Česká Třeb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8920" y="3833640"/>
            <a:ext cx="554508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důvodnění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ilný přepravní potenciál v dopravní ose měst Pardubice – Choceň – Ústí n. Orlicí – Česká Třeb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třeba kvalitnějšího napojení Králicka, Letohradska, i ve směru do Pols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tížné trasování pomalých vlaků vzhledem k vysokému počtu vlaků na koridorové tr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 špičce v Bezpráví obvykle 1 cestující (za celý den celkem asi 15), zastávka mimo osídl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50920" y="836640"/>
            <a:ext cx="4033800" cy="2517840"/>
          </a:xfrm>
          <a:prstGeom prst="rect">
            <a:avLst/>
          </a:prstGeom>
          <a:ln w="0">
            <a:noFill/>
          </a:ln>
        </p:spPr>
      </p:pic>
      <p:sp>
        <p:nvSpPr>
          <p:cNvPr id="68" name="Freeform 4"/>
          <p:cNvSpPr/>
          <p:nvPr/>
        </p:nvSpPr>
        <p:spPr>
          <a:xfrm>
            <a:off x="1598760" y="1290600"/>
            <a:ext cx="1401480" cy="480960"/>
          </a:xfrm>
          <a:custGeom>
            <a:avLst/>
            <a:gdLst>
              <a:gd name="textAreaLeft" fmla="*/ 0 w 1401480"/>
              <a:gd name="textAreaRight" fmla="*/ 1401840 w 140148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1029" h="330">
                <a:moveTo>
                  <a:pt x="0" y="0"/>
                </a:moveTo>
                <a:lnTo>
                  <a:pt x="204" y="48"/>
                </a:lnTo>
                <a:lnTo>
                  <a:pt x="474" y="48"/>
                </a:lnTo>
                <a:lnTo>
                  <a:pt x="732" y="72"/>
                </a:lnTo>
                <a:lnTo>
                  <a:pt x="945" y="147"/>
                </a:lnTo>
                <a:lnTo>
                  <a:pt x="1029" y="330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0" descr=""/>
          <p:cNvPicPr/>
          <p:nvPr/>
        </p:nvPicPr>
        <p:blipFill>
          <a:blip r:embed="rId2"/>
          <a:stretch/>
        </p:blipFill>
        <p:spPr>
          <a:xfrm>
            <a:off x="6012000" y="4149720"/>
            <a:ext cx="3024000" cy="2627280"/>
          </a:xfrm>
          <a:prstGeom prst="rect">
            <a:avLst/>
          </a:prstGeom>
          <a:ln w="0">
            <a:noFill/>
          </a:ln>
        </p:spPr>
      </p:pic>
      <p:sp>
        <p:nvSpPr>
          <p:cNvPr id="70" name="TextovéPole 10"/>
          <p:cNvSpPr/>
          <p:nvPr/>
        </p:nvSpPr>
        <p:spPr>
          <a:xfrm>
            <a:off x="4356000" y="765000"/>
            <a:ext cx="4788000" cy="32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ávající stav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stávkové osobní vla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álo spěšných vlak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enzivní dálková dopra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vr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sobní vlaky v přiměřeném rozsah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rychlení a zvýšení počtu Sp vlak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st. Bezpráví nahradit autobusy přes obec Orlické Podhůří (rekreační doprava bude zachován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ovéPole 11"/>
          <p:cNvSpPr/>
          <p:nvPr/>
        </p:nvSpPr>
        <p:spPr>
          <a:xfrm>
            <a:off x="6012000" y="386064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d0d0d"/>
                </a:solidFill>
                <a:latin typeface="Arial"/>
              </a:rPr>
              <a:t>Využití zastávky Bezpráví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15: úsek Přelouč – Prachovice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17: úsek Heřmanův Městec – Chrudim mě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3409560"/>
            <a:ext cx="352908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důvodně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 Prachovic souběh s autobusy, nízké využití všech vlak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ojení lze velmi kvalitně zajistit výrazně levnější autobusovou dopravou (přestupy na vlaky v Heřmanově Městc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95280" y="1125360"/>
            <a:ext cx="3456000" cy="2157480"/>
          </a:xfrm>
          <a:prstGeom prst="rect">
            <a:avLst/>
          </a:prstGeom>
          <a:ln w="0">
            <a:noFill/>
          </a:ln>
        </p:spPr>
      </p:pic>
      <p:sp>
        <p:nvSpPr>
          <p:cNvPr id="75" name="Freeform 5"/>
          <p:cNvSpPr/>
          <p:nvPr/>
        </p:nvSpPr>
        <p:spPr>
          <a:xfrm>
            <a:off x="1150920" y="1486080"/>
            <a:ext cx="138240" cy="428400"/>
          </a:xfrm>
          <a:custGeom>
            <a:avLst/>
            <a:gdLst>
              <a:gd name="textAreaLeft" fmla="*/ 0 w 138240"/>
              <a:gd name="textAreaRight" fmla="*/ 138600 w 13824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120" h="387">
                <a:moveTo>
                  <a:pt x="0" y="0"/>
                </a:moveTo>
                <a:lnTo>
                  <a:pt x="120" y="249"/>
                </a:lnTo>
                <a:lnTo>
                  <a:pt x="60" y="387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Freeform 7"/>
          <p:cNvSpPr/>
          <p:nvPr/>
        </p:nvSpPr>
        <p:spPr>
          <a:xfrm>
            <a:off x="1300320" y="1690560"/>
            <a:ext cx="277560" cy="47880"/>
          </a:xfrm>
          <a:custGeom>
            <a:avLst/>
            <a:gdLst>
              <a:gd name="textAreaLeft" fmla="*/ 0 w 277560"/>
              <a:gd name="textAreaRight" fmla="*/ 277920 w 27756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240" h="42">
                <a:moveTo>
                  <a:pt x="0" y="42"/>
                </a:moveTo>
                <a:lnTo>
                  <a:pt x="240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ovéPole 9"/>
          <p:cNvSpPr/>
          <p:nvPr/>
        </p:nvSpPr>
        <p:spPr>
          <a:xfrm>
            <a:off x="4067280" y="1177920"/>
            <a:ext cx="507672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ávající stav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hrudim – Heřmanův Městec: doprava neobjednávána již od prosince 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achovice – Heřmanův Městec: omezený provoz od prosince 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eřmanův Městec – Přelouč: Osobní vlaky denn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vr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áhrada autobusy Heřmanův Městec - Pracho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3780000" y="3841920"/>
            <a:ext cx="5216400" cy="1358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3"/>
          <a:stretch/>
        </p:blipFill>
        <p:spPr>
          <a:xfrm>
            <a:off x="3780000" y="5281560"/>
            <a:ext cx="5222880" cy="1351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4"/>
          <a:stretch/>
        </p:blipFill>
        <p:spPr>
          <a:xfrm>
            <a:off x="3780000" y="3481560"/>
            <a:ext cx="5217840" cy="317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"/>
          <p:cNvPicPr/>
          <p:nvPr/>
        </p:nvPicPr>
        <p:blipFill>
          <a:blip r:embed="rId5"/>
          <a:stretch/>
        </p:blipFill>
        <p:spPr>
          <a:xfrm>
            <a:off x="82440" y="5718240"/>
            <a:ext cx="3635640" cy="91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16: Chrudim – Moravany – Holice - Borohrád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560" y="3500280"/>
            <a:ext cx="8893080" cy="29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ůvodněn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Chrudim – Moravany: Úsek je celkově málo vytížen cestujícími, nelze odůvodnit další rozšiřování provozu. Zároveň je však jeden pár školních spojů obsazen velmi silně a je obtížné jej nahradit autobusy. Zast. Tuněchody leží mimo osídlení, a není proto využívána. Bude nahrazena autobus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oravany – Holice: Kvalitní umístění zastávek, silný potenciál růstu počtu cestujících. V cílovém stavu přímé vlaky z Pardubic (nyní 200 os./den, potenciál dalšího růstu díky možnostem zrychlení dopravy), odlehčení autobusové dopravě. To je však podmíněno nasazením moderních vozid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Holice – Borohrádek: vynechaná sídla, pouze asi 50 cestujících za celý 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95280" y="1125360"/>
            <a:ext cx="3745080" cy="2149560"/>
          </a:xfrm>
          <a:prstGeom prst="rect">
            <a:avLst/>
          </a:prstGeom>
          <a:ln w="0">
            <a:noFill/>
          </a:ln>
        </p:spPr>
      </p:pic>
      <p:sp>
        <p:nvSpPr>
          <p:cNvPr id="85" name="Freeform 5"/>
          <p:cNvSpPr/>
          <p:nvPr/>
        </p:nvSpPr>
        <p:spPr>
          <a:xfrm>
            <a:off x="1619280" y="1341360"/>
            <a:ext cx="563400" cy="476280"/>
          </a:xfrm>
          <a:custGeom>
            <a:avLst/>
            <a:gdLst>
              <a:gd name="textAreaLeft" fmla="*/ 0 w 563400"/>
              <a:gd name="textAreaRight" fmla="*/ 563760 w 56340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450" h="438">
                <a:moveTo>
                  <a:pt x="0" y="438"/>
                </a:moveTo>
                <a:lnTo>
                  <a:pt x="0" y="312"/>
                </a:lnTo>
                <a:lnTo>
                  <a:pt x="192" y="330"/>
                </a:lnTo>
                <a:lnTo>
                  <a:pt x="228" y="204"/>
                </a:lnTo>
                <a:lnTo>
                  <a:pt x="342" y="84"/>
                </a:lnTo>
                <a:lnTo>
                  <a:pt x="450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ovéPole 8"/>
          <p:cNvSpPr/>
          <p:nvPr/>
        </p:nvSpPr>
        <p:spPr>
          <a:xfrm>
            <a:off x="4211640" y="981000"/>
            <a:ext cx="482436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távající stav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sobní vla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Návr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rudim – Moravany stávající koncepce, průjezd zastávkou Tuněch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ravany – Holice postupné posilování provozu a dle možností rozvoj přímých vlaků z Pardub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olice – Borohrádek náhrada autobu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4726080" y="6021360"/>
            <a:ext cx="4238640" cy="380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3"/>
          <a:stretch/>
        </p:blipFill>
        <p:spPr>
          <a:xfrm>
            <a:off x="4716360" y="5732640"/>
            <a:ext cx="4248360" cy="263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4"/>
          <a:stretch/>
        </p:blipFill>
        <p:spPr>
          <a:xfrm>
            <a:off x="4703760" y="6443640"/>
            <a:ext cx="4268880" cy="279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5"/>
          <a:stretch/>
        </p:blipFill>
        <p:spPr>
          <a:xfrm>
            <a:off x="324000" y="5661000"/>
            <a:ext cx="4248000" cy="107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9280" y="765000"/>
            <a:ext cx="3689280" cy="23036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18: úsek Choceň – Litomy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240" y="3382920"/>
            <a:ext cx="889164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důvodně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oje v období 6. a 14. hodiny vykazují silnější využití do/z zast. Dvořisko (10-15 osob), ostatní vlaky zastavují většinou pro 0-2 cestujíc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amotná místní část Dvořisko se nachází mimo železnici, a je obsloužena autobu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utobusové zastávky v Litomyšli i Vys. Mýtě umístěny lépe z hlediska dostup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ková obsazenost Vys. Mýto – Litomyšl mimo špičkové hodiny je v nahrazovaném úseku pouze cca 15 osob/spoj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omezovaném úseku lze nahradit železnici výrazně levnější autobusovou doprav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áhrada páteřní linkou Svitavy – Litomyšl – Vysoké Mýto – Hr. Králové a obslužnými autobusy pro menší sídla (z Litomyšle se navíc připravují rychlé autobusové přípoje k dálkovým vlakům do Chocně a České Třebové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4"/>
          <p:cNvSpPr/>
          <p:nvPr/>
        </p:nvSpPr>
        <p:spPr>
          <a:xfrm>
            <a:off x="2077920" y="1306440"/>
            <a:ext cx="304920" cy="389160"/>
          </a:xfrm>
          <a:custGeom>
            <a:avLst/>
            <a:gdLst>
              <a:gd name="textAreaLeft" fmla="*/ 0 w 304920"/>
              <a:gd name="textAreaRight" fmla="*/ 305280 w 304920"/>
              <a:gd name="textAreaTop" fmla="*/ 0 h 389160"/>
              <a:gd name="textAreaBottom" fmla="*/ 389520 h 389160"/>
            </a:gdLst>
            <a:ahLst/>
            <a:rect l="textAreaLeft" t="textAreaTop" r="textAreaRight" b="textAreaBottom"/>
            <a:pathLst>
              <a:path w="264" h="316">
                <a:moveTo>
                  <a:pt x="134" y="0"/>
                </a:moveTo>
                <a:lnTo>
                  <a:pt x="0" y="118"/>
                </a:lnTo>
                <a:lnTo>
                  <a:pt x="90" y="238"/>
                </a:lnTo>
                <a:lnTo>
                  <a:pt x="264" y="316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ovéPole 8"/>
          <p:cNvSpPr/>
          <p:nvPr/>
        </p:nvSpPr>
        <p:spPr>
          <a:xfrm>
            <a:off x="3995640" y="692280"/>
            <a:ext cx="49690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ávající stav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sobní vlaky Choceň – Vysoké Mýto město s přestupy do Litomyš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vr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ůjezd zast. Dvořisko (mimo osídlení) s výjimkou „dělnických“ spoj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s. Mýto město – Litomyšl: omezení provoz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020: úsek Choceň - Borohrád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3573000"/>
            <a:ext cx="4464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ůvodněn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inimálně využitá stanice Újezd u Chocně se nachází zcela mimo osídlení a v blízkosti zast. Plchův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sluha obce Újezd bude zajištěna pravidelnou autobusovou linkou Choceň – Horní Jelení – Hol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 víkendech zastaví 4 páry osobních vlak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stávka Plchůvky je také velmi málo využívána, nicméně autobusová obsluha by zde byla značně komplikovaná (nevyhovující silniční síť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60360" y="1173240"/>
            <a:ext cx="3706920" cy="2314440"/>
          </a:xfrm>
          <a:prstGeom prst="rect">
            <a:avLst/>
          </a:prstGeom>
          <a:ln w="0">
            <a:noFill/>
          </a:ln>
        </p:spPr>
      </p:pic>
      <p:sp>
        <p:nvSpPr>
          <p:cNvPr id="99" name="Freeform 5"/>
          <p:cNvSpPr/>
          <p:nvPr/>
        </p:nvSpPr>
        <p:spPr>
          <a:xfrm>
            <a:off x="2124000" y="1413000"/>
            <a:ext cx="270000" cy="255600"/>
          </a:xfrm>
          <a:custGeom>
            <a:avLst/>
            <a:gdLst>
              <a:gd name="textAreaLeft" fmla="*/ 0 w 270000"/>
              <a:gd name="textAreaRight" fmla="*/ 270360 w 2700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62" h="57">
                <a:moveTo>
                  <a:pt x="0" y="0"/>
                </a:moveTo>
                <a:lnTo>
                  <a:pt x="162" y="57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ovéPole 8"/>
          <p:cNvSpPr/>
          <p:nvPr/>
        </p:nvSpPr>
        <p:spPr>
          <a:xfrm>
            <a:off x="4211640" y="1268280"/>
            <a:ext cx="482436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ávající stav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s i Sp vlaky, převážně dle požadavků Královéhradeckého kra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vr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ávající koncepce, průjezd žst. Újezd u Chocně v pracovní d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6300720" y="3357720"/>
            <a:ext cx="774720" cy="153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4643280" y="3573360"/>
            <a:ext cx="4105440" cy="31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21: úsek (Hr. Králové -) Potštejn – Letohr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95280" y="981000"/>
            <a:ext cx="4032360" cy="25178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5"/>
          <p:cNvSpPr/>
          <p:nvPr/>
        </p:nvSpPr>
        <p:spPr>
          <a:xfrm>
            <a:off x="2943360" y="1251000"/>
            <a:ext cx="298440" cy="162000"/>
          </a:xfrm>
          <a:custGeom>
            <a:avLst/>
            <a:gdLst/>
            <a:ahLst/>
            <a:rect l="l" t="t" r="r" b="b"/>
            <a:pathLst>
              <a:path w="3737" h="8260">
                <a:moveTo>
                  <a:pt x="0" y="0"/>
                </a:moveTo>
                <a:lnTo>
                  <a:pt x="3737" y="8260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ovéPole 8"/>
          <p:cNvSpPr/>
          <p:nvPr/>
        </p:nvSpPr>
        <p:spPr>
          <a:xfrm>
            <a:off x="4716360" y="907920"/>
            <a:ext cx="431964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ávající stav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binace spěšných vlaků přímo z Hr. Králové a osobních vlaků s přestu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 prosince 2010 návrat přímých spojů Hr. Králové - Letohr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vrh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dukce osobních vlak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ůjezdy zastávek Sopotni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Lukavice v Čechá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5757840" y="4941720"/>
            <a:ext cx="2965320" cy="1916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3"/>
          <a:stretch/>
        </p:blipFill>
        <p:spPr>
          <a:xfrm>
            <a:off x="6578640" y="4762440"/>
            <a:ext cx="1173240" cy="187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4"/>
          <a:stretch/>
        </p:blipFill>
        <p:spPr>
          <a:xfrm>
            <a:off x="1838160" y="4800600"/>
            <a:ext cx="640080" cy="195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5"/>
          <a:stretch/>
        </p:blipFill>
        <p:spPr>
          <a:xfrm>
            <a:off x="611280" y="4941720"/>
            <a:ext cx="3117600" cy="19162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840" y="3389040"/>
            <a:ext cx="882036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důvodně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Zastávky Sopotnice a Lukavice v Čechách minimálně využity, budou nahrazeny autobusem v centru osídl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Spojení autobusem Letohrad – Žamberk (pro obec Lukavice) stejně jako Ústí nad Orlicí – Potštejn – Vamberk (pro obec Sopotnice) je zajištěno celotýdenně páteřními linkami se značným počtem spojů, počet cest z Lukavice do jiných měst je minimál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24: úsek Ústí nad Orlicí – Letohrad - Lich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3640" y="3762000"/>
            <a:ext cx="856908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důvodnění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třeba kvalitnějšího napojení Králicka a Letohradska do centra regio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pěšné vlaky budou mít v Pardubicích přípoje na vlaky IC/EC směr Pra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sobní vlaky zajistí spojení pro mezilehlé obce a místní části za současného posílení počtu spojů pro města Jablonné nad Orlicí a Letohr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 Letohradě budou zajištěny přípoje ze směru Lichkov na spěšné vlaky směr Hradec Králov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Část spěšných vlaků zajistí spojení z Pardubického kraje (a s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estupem též z</a:t>
            </a: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ahy) do Polska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9280" y="1052640"/>
            <a:ext cx="3672000" cy="2328840"/>
          </a:xfrm>
          <a:prstGeom prst="rect">
            <a:avLst/>
          </a:prstGeom>
          <a:ln w="0">
            <a:noFill/>
          </a:ln>
        </p:spPr>
      </p:pic>
      <p:sp>
        <p:nvSpPr>
          <p:cNvPr id="115" name="TextovéPole 11"/>
          <p:cNvSpPr/>
          <p:nvPr/>
        </p:nvSpPr>
        <p:spPr>
          <a:xfrm>
            <a:off x="3924360" y="1268280"/>
            <a:ext cx="5040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ávající stav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vážně zastávkové vla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vrh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ílení počtu přímých spěšných vlaků z Pardub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chování osobních vlaků s návazností na rychlíky v Ústí nad Orlic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5"/>
          <p:cNvSpPr/>
          <p:nvPr/>
        </p:nvSpPr>
        <p:spPr>
          <a:xfrm>
            <a:off x="2576520" y="1284120"/>
            <a:ext cx="533520" cy="4003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3721" y="3613"/>
                </a:lnTo>
                <a:lnTo>
                  <a:pt x="10000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0:38:27Z</dcterms:created>
  <dc:creator>Nenutil</dc:creator>
  <dc:description/>
  <dc:language>en-US</dc:language>
  <cp:lastModifiedBy>admin</cp:lastModifiedBy>
  <dcterms:modified xsi:type="dcterms:W3CDTF">2011-06-01T06:21:56Z</dcterms:modified>
  <cp:revision>168</cp:revision>
  <dc:subject/>
  <dc:title>Snímek 1</dc:title>
</cp:coreProperties>
</file>